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F2E0-7FA1-49FD-ADCC-993C726C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4C1-8070-45CD-AF95-B5B5110A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CA8-3397-4399-9743-C5839F44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67C-01EB-43AA-92D0-4D93B421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0EE9-AB04-43E4-A42F-B22F345F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C772-8477-404B-9794-6E2A113B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1833-B31D-477B-9141-421749EF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4875-3525-4DC8-9055-94A5D252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7CB6-1B62-4BB8-BE3A-7A8B2D27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FDCB-3780-4024-992F-A6F474F7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03F0-1E87-46AF-B008-B31DD09D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66F-B5EB-49F1-9181-270EBCBD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5D2C-1CD4-428E-BCA6-75419A5C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B234-0686-45A0-B00A-1E2EA252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8F60-6BA6-4785-9CD4-C255D65E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CCA0-B81E-4075-BD3A-10141F26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644B-B774-4C53-B114-2D4C4FA4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897-A3BB-4A5D-A212-7B270DF3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AC9-E94B-4D97-8F4C-57214BCF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35E-2AE9-499E-AB36-29D7C203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8BBF-AB88-47E8-809B-13A013F8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50B-B969-4D63-9F84-A543F91B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2B7-4E3C-4234-8130-304F9796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8D7-273B-4703-887A-71412038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F2FD-ACA5-4183-8484-9144437EB5F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65A9-21F3-4E81-A6CE-87D390AF558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871640" y="1665360"/>
            <a:ext cx="5508720" cy="421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bjetos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 Maple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2360" y="4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cc"/>
                </a:solidFill>
                <a:latin typeface="Times New Roman"/>
              </a:rPr>
              <a:t>Listas en Maple: </a:t>
            </a:r>
            <a:r>
              <a:rPr b="1" lang="es-ES" sz="3600" spc="-1" strike="noStrike">
                <a:solidFill>
                  <a:srgbClr val="ee941c"/>
                </a:solidFill>
                <a:latin typeface="Times New Roman"/>
              </a:rPr>
              <a:t>l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6000" y="1674720"/>
            <a:ext cx="871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ista es la estructura más usada en Ma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samos corchetes para definir una lis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a lista es una sucesión encerrada entre corche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ple</a:t>
            </a:r>
            <a:r>
              <a:rPr b="0" lang="es-ES" sz="2800" spc="-1" strike="noStrike">
                <a:solidFill>
                  <a:srgbClr val="ee941c"/>
                </a:solidFill>
                <a:latin typeface="Times New Roman"/>
              </a:rPr>
              <a:t> preserv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orden y  repeticion en una lis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n argumentos naturales de varios de los coman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[a,b,c], [c,b,a] son dos listas difer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po (type): </a:t>
            </a:r>
            <a:r>
              <a:rPr b="0" lang="es-ES" sz="2800" spc="-1" strike="noStrike">
                <a:solidFill>
                  <a:srgbClr val="ee941c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6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143000" y="237960"/>
            <a:ext cx="6858000" cy="6382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32000" y="124308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L:=[ sin , cos , tan , cot, sec, csc];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00240" y="1413000"/>
            <a:ext cx="4524120" cy="628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03280" y="177336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L[2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578016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orte"/>
              </a:rPr>
              <a:t>Referenciando elementos de la l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198440" y="1844640"/>
            <a:ext cx="3829320" cy="657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03280" y="2205000"/>
            <a:ext cx="26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L[2..4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1224000" y="2286000"/>
            <a:ext cx="3857760" cy="638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3280" y="2637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L[3..-2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1187280" y="2708280"/>
            <a:ext cx="4143600" cy="638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40000" y="306864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whattype(L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1224000" y="3141720"/>
            <a:ext cx="3828960" cy="628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59280" y="4041720"/>
            <a:ext cx="316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35640" y="4834080"/>
            <a:ext cx="345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3280" y="36828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hattype( ),  op( ),  nops( 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11280" y="2708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80504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whattype(x^2+y^2-4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111640" y="2565360"/>
            <a:ext cx="3552840" cy="2085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24000" y="331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op(x^2+y^2-4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916360" y="4059360"/>
            <a:ext cx="1047600" cy="485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124000" y="4653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e941c"/>
                </a:solidFill>
                <a:latin typeface="Bradley Hand ITC"/>
              </a:rPr>
              <a:t>suc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0817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nops(x^2+y^2-4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71640" y="5769000"/>
            <a:ext cx="1187640" cy="539640"/>
          </a:xfrm>
          <a:prstGeom prst="rect">
            <a:avLst/>
          </a:prstGeom>
          <a:solidFill>
            <a:srgbClr val="ee941c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59280" y="4041720"/>
            <a:ext cx="316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4834080"/>
            <a:ext cx="345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15920"/>
            <a:ext cx="70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hattype( ),  op( ),  nops( 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119700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whattype(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(a+b)^2 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28162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op((a+b)^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3681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e941c"/>
                </a:solidFill>
                <a:latin typeface="Bradley Hand ITC"/>
              </a:rPr>
              <a:t>suc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45784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op(1,(a+b)^2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4618080"/>
            <a:ext cx="1187640" cy="539640"/>
          </a:xfrm>
          <a:prstGeom prst="rect">
            <a:avLst/>
          </a:prstGeom>
          <a:solidFill>
            <a:srgbClr val="ee941c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916360" y="1881360"/>
            <a:ext cx="718920" cy="679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688000" y="1457280"/>
            <a:ext cx="2800440" cy="1971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2808360" y="3500280"/>
            <a:ext cx="1473120" cy="671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58920" y="56577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op(2,(a+b)^2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5697360"/>
            <a:ext cx="1187640" cy="540000"/>
          </a:xfrm>
          <a:prstGeom prst="rect">
            <a:avLst/>
          </a:prstGeom>
          <a:solidFill>
            <a:srgbClr val="ee941c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2360" y="4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e941c"/>
                </a:solidFill>
                <a:latin typeface="Times New Roman"/>
              </a:rPr>
              <a:t>map( ) y zip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512640"/>
            <a:ext cx="1404720" cy="68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1640" y="141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licar una función a lo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mponent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de una expr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20239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(a+b)^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0000" y="2637000"/>
            <a:ext cx="2571840" cy="1933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03280" y="4941720"/>
            <a:ext cx="40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map(f, (a+b)^2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2360" y="4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e941c"/>
                </a:solidFill>
                <a:latin typeface="Times New Roman"/>
              </a:rPr>
              <a:t>map( ) y zip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512640"/>
            <a:ext cx="1404720" cy="68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92720" y="549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(a+b)^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896000" y="1197000"/>
            <a:ext cx="2571480" cy="1933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79280" y="3429000"/>
            <a:ext cx="40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map(sin, (a+b)^2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967280" y="3429000"/>
            <a:ext cx="2371680" cy="1952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303640" y="4834080"/>
            <a:ext cx="1533240" cy="571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2360" y="4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e941c"/>
                </a:solidFill>
                <a:latin typeface="Times New Roman"/>
              </a:rPr>
              <a:t>map( ) y zip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268280"/>
            <a:ext cx="69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lica una función a los componentes de dos 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95264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zip(f, [a,b,c],[x,y,z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4413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zip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6804000" cy="1352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2360" y="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e941c"/>
                </a:solidFill>
                <a:latin typeface="Times New Roman"/>
              </a:rPr>
              <a:t>subsop y  algsub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000" y="873000"/>
            <a:ext cx="69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mbiar parte de una expr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1771560"/>
            <a:ext cx="70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expr:=(x^2+3)/(x+1)+(x^2+1)+3+2*x: exp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024360" y="2276640"/>
            <a:ext cx="2663640" cy="923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24000" y="346392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subsop(3=1/(a^2+1), exp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987640" y="4041720"/>
            <a:ext cx="2581200" cy="857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87280" y="511956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subsop(4=1/(a^2+1), exp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3244680" y="5700600"/>
            <a:ext cx="2372040" cy="752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2360" y="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e941c"/>
                </a:solidFill>
                <a:latin typeface="Times New Roman"/>
              </a:rPr>
              <a:t>subsop y  algsub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000" y="873000"/>
            <a:ext cx="69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mbiar parte de una expr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7715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subs(a+b=z, a+b+c+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346392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algsubs(a+b=z, a+b+c+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7280" y="5119560"/>
            <a:ext cx="56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lgsubs</a:t>
            </a: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(a+d=Q, a+b+c+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59280" y="2313000"/>
            <a:ext cx="2247840" cy="627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580000" y="238428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e941c"/>
                </a:solidFill>
                <a:latin typeface="Forte"/>
              </a:rPr>
              <a:t>No hay camb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132000" y="3933720"/>
            <a:ext cx="2208240" cy="792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3600360" y="5697360"/>
            <a:ext cx="1908360" cy="793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2619360"/>
            <a:ext cx="8459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macena e identifica los elementos que mane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uctura que tiene los obje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iferentes representación de un mismo obje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endo las partes internas de un obje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ambiando un objeto actuando en sus partes intern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58920" y="512640"/>
            <a:ext cx="51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expr:=2*y+(3+2*x/5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94000" y="1449360"/>
            <a:ext cx="485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cript MT Bold"/>
              </a:rPr>
              <a:t>Objeto interno en Ma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5080" y="1989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cc"/>
                </a:solidFill>
                <a:latin typeface="Times New Roman"/>
              </a:rPr>
              <a:t>Maple, internam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4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1160640"/>
            <a:ext cx="8245440" cy="58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a estructura más básica son las </a:t>
            </a:r>
            <a:r>
              <a:rPr b="1" lang="es-ES" sz="3200" spc="-1" strike="noStrike">
                <a:solidFill>
                  <a:srgbClr val="ee941c"/>
                </a:solidFill>
                <a:latin typeface="Times New Roman"/>
              </a:rPr>
              <a:t>suce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on expresiones separadas por c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Tipo: </a:t>
            </a:r>
            <a:r>
              <a:rPr b="1" lang="es-ES" sz="2800" spc="-1" strike="noStrike">
                <a:solidFill>
                  <a:srgbClr val="0099cc"/>
                </a:solidFill>
                <a:latin typeface="Times New Roman"/>
              </a:rPr>
              <a:t>exprse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urier New"/>
              </a:rPr>
              <a:t>nops([A]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reserva orden y repet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[j], es el j-ésimo elemento de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[j], cuándo tiene senti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Los índices: 1,2,3,4,5,6,7,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88920" y="441360"/>
            <a:ext cx="71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A:= a, b/c, y, d, a,e, x^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8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16000" y="1413000"/>
            <a:ext cx="50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:=seq(1/j, j=1..20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5842080"/>
            <a:ext cx="68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Construyendo sucesion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63640" y="1484280"/>
            <a:ext cx="5467320" cy="885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55880" y="20970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nops([A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63640" y="2158920"/>
            <a:ext cx="3457440" cy="65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79640" y="2529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[10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879480" y="2600280"/>
            <a:ext cx="3705120" cy="885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42920" y="3213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whattype(A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817560" y="3284640"/>
            <a:ext cx="3790800" cy="666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52400" y="176040"/>
            <a:ext cx="7639200" cy="650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16000" y="1413000"/>
            <a:ext cx="50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:=seq(1/j, j=100..110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58920" y="5842080"/>
            <a:ext cx="68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Construyendo sucesion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06480" y="1484280"/>
            <a:ext cx="5105520" cy="876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92240" y="20797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nops([A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87400" y="2133720"/>
            <a:ext cx="3790800" cy="647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52360" y="2492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[2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900000" y="2565360"/>
            <a:ext cx="3886200" cy="885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52360" y="3195720"/>
            <a:ext cx="37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whattype(A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900000" y="3249720"/>
            <a:ext cx="3571920" cy="657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52400" y="176040"/>
            <a:ext cx="7639200" cy="650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79640" y="1413000"/>
            <a:ext cx="50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seq( f(p, i, q, r), i=[a,b,c,d,e,f]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5842080"/>
            <a:ext cx="68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Construyendo sucesion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76240" y="1484280"/>
            <a:ext cx="5496120" cy="638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92240" y="18446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nops([%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876240" y="1916280"/>
            <a:ext cx="3381480" cy="628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79640" y="229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%%[8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863640" y="2349360"/>
            <a:ext cx="2724120" cy="790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2360" y="4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cc"/>
                </a:solidFill>
                <a:latin typeface="Times New Roman"/>
              </a:rPr>
              <a:t>Conjuntos en Maple: </a:t>
            </a:r>
            <a:r>
              <a:rPr b="1" lang="es-ES" sz="3600" spc="-1" strike="noStrike">
                <a:solidFill>
                  <a:srgbClr val="ee941c"/>
                </a:solidFill>
                <a:latin typeface="Times New Roman"/>
              </a:rPr>
              <a:t>s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6000" y="1674720"/>
            <a:ext cx="87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ple soporta conjuntos en el sentido matemát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mo matemáticas, usamos la llaves para definirl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conjunto es una sucesión encerrada entre llav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ple </a:t>
            </a:r>
            <a:r>
              <a:rPr b="0" lang="es-ES" sz="2800" spc="-1" strike="noStrike">
                <a:solidFill>
                  <a:srgbClr val="ee941c"/>
                </a:solidFill>
                <a:latin typeface="Times New Roman"/>
              </a:rPr>
              <a:t>no preserv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orden o repeticion en un conjun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conjuntos en Maple se comportan como los conjuntos en matemát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{a,b,c}, {c,b,a}, {a,a,b,c,a} son conjuntos idéntic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po (type): </a:t>
            </a:r>
            <a:r>
              <a:rPr b="0" lang="es-ES" sz="2800" spc="-1" strike="noStrike">
                <a:solidFill>
                  <a:srgbClr val="ee941c"/>
                </a:solidFill>
                <a:latin typeface="Times New Roman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4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435640" y="4834080"/>
            <a:ext cx="345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43000" y="237960"/>
            <a:ext cx="6858000" cy="6382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280" y="1376280"/>
            <a:ext cx="46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:={Pedro, Luisa, Juan, Pedro};</a:t>
            </a:r>
            <a:br>
              <a:rPr sz="1400"/>
            </a:b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B:={Toby, Carlos, Ana, Luisa}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187280" y="1413000"/>
            <a:ext cx="4505400" cy="1076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368360" y="220500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op(B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76560" y="5697360"/>
            <a:ext cx="47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Bradley Hand ITC"/>
              </a:rPr>
              <a:t>Los elementos del conjunto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2276640"/>
            <a:ext cx="4267440" cy="628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435640" y="4834080"/>
            <a:ext cx="345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43000" y="237960"/>
            <a:ext cx="6858000" cy="6382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03280" y="1376280"/>
            <a:ext cx="46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:={Pedro, Luisa, Juan, Pedro};</a:t>
            </a:r>
            <a:br>
              <a:rPr sz="1400"/>
            </a:b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B:={Toby, Carlos, Ana, Luisa}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187280" y="1413000"/>
            <a:ext cx="4505400" cy="1076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176560" y="5697360"/>
            <a:ext cx="47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Forte"/>
              </a:rPr>
              <a:t>Operaciones entre conjunto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68360" y="222408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 union B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187280" y="2276640"/>
            <a:ext cx="4648320" cy="609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03280" y="261936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 intersect B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208160" y="2701800"/>
            <a:ext cx="3724200" cy="619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03280" y="308772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 minus B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24000" y="3176640"/>
            <a:ext cx="3981240" cy="619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03280" y="353700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 subset B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1224000" y="3608280"/>
            <a:ext cx="3647880" cy="647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9:58:59Z</dcterms:created>
  <dc:creator>Michael Stuart</dc:creator>
  <dc:description/>
  <dc:language>en-US</dc:language>
  <cp:lastModifiedBy>LABDOC01</cp:lastModifiedBy>
  <dcterms:modified xsi:type="dcterms:W3CDTF">2006-09-27T23:22:06Z</dcterms:modified>
  <cp:revision>1219</cp:revision>
  <dc:subject/>
  <dc:title>No Slide Title</dc:title>
</cp:coreProperties>
</file>