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15B-56B4-4E42-9568-D34E2E23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E28-D209-45AB-9428-C237B789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DB9-3F35-4454-82D1-E40AA833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8C6-9407-4990-9BD0-357595D0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8D0-2D67-4832-AE57-8F84FCCC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E850-5ED7-4D37-91F5-868EABE8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4BFC-78B4-4641-95D2-9F69BB8F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8BA-DFA2-4264-B4B9-55B2E275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8BCE-A20F-47D0-9794-1A4E7DDD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7A3F-1261-4711-9603-C1F253C2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2088-5749-4C09-8122-E0A0026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841-2A3D-4B88-A95F-8AF1C36F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AD47-668E-4BE3-91A9-F399E15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020F-0E3E-41E3-9165-F6FED92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706F-CF31-41CA-BC6E-119EE31D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FEAB-DEB9-49F4-822D-30387F04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710F-4DD8-44B4-AF35-74DBC661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596A-1B17-46FA-B1BB-E0C0739B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0D58-6AD8-418D-A08C-EC54957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A129-7A19-45AE-9A73-FE08418C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4B92-7A7E-493E-88D6-956EF597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3A29-329F-4541-91E2-C082870D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5C2-48E7-4B06-A786-CE7DC16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C7BF-DAEE-4492-884B-998B7D6E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76F9-0502-4AE2-BEC4-3A62EA03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328F-9FEA-45A7-A518-31B68BC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1A94-E33B-4E7F-B1BF-1446AEE4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F236-856D-44AC-B772-1DFC451F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BE1F-8DCB-4D17-9049-01FD1022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8424-3F66-4C6D-8252-44292E76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E1F0-DDA8-40D6-B05C-8BC9F0D5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1244-7446-469F-87E3-CDA52E55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2C1D-381E-4A71-AA96-3768C6E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9AE-EB16-404B-9578-24C70BED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C4C5-A680-4039-AC42-4F33E6D4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C05D-B0B0-463C-A99E-1F8670BE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655A-FC41-4093-AF52-5DB8B40C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6618-3200-4772-A2A3-D8E9466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A4AF-0D18-410C-8A63-2D1147A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ACEA-5B47-49EB-9A05-6BB3F1F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5421-0EBC-4103-8458-12A95B35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BA81B-1045-4D95-AB86-D9777F71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BA48-370A-4EB9-8D70-2E6E19D3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2CA-43AC-425D-93F4-533CD2C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9AD-21FB-4AB1-AB7C-6B13662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145-518A-4AE8-AC18-E664B9A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597-44ED-4FCA-8C00-57744E15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3FB-BACA-47AA-86D0-8EA89F2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9E71-92AB-4B05-B151-F8F5AD3D168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8552-E511-4C85-A766-A6C59C28963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1AC6-9CB0-4CAD-A297-D01F56721E6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4FD3-255B-46FE-B27B-924908E1B21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C:\Archivos de programa\Maple 10\bin.win\cwmaple.exe" TargetMode="External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16000" y="0"/>
            <a:ext cx="80280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Times New Roman"/>
              </a:rPr>
              <a:t>Abriendo el progra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Ma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1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uscamos el logo del programa  en el escritorio de trabaj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5589360"/>
            <a:ext cx="8208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ahoma"/>
              </a:rPr>
              <a:t>Colocamos el punto y coma al final del comando y ejecutamos nuevament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7280" y="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letamos el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15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166920" y="2241720"/>
            <a:ext cx="4381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83920" y="49320"/>
            <a:ext cx="564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Bloque de comandos..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2920" y="1419120"/>
            <a:ext cx="5811840" cy="2009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591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Cuando ejecutamos un bloque se ejecutan todos  los com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84080" y="185760"/>
            <a:ext cx="5443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Bloque de comandos..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688000" y="48340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Tres comando diferentes que se comportan como un comando, al ejecutarlo se ejecutan los tr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5715000" cy="3943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6560" y="2241720"/>
            <a:ext cx="5510520" cy="107928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9640" y="37800"/>
            <a:ext cx="659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truyendo un bloque..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40160" y="287028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1800" y="14670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2520" y="1467000"/>
            <a:ext cx="2700360" cy="431640"/>
          </a:xfrm>
          <a:prstGeom prst="leftArrow">
            <a:avLst>
              <a:gd name="adj1" fmla="val 50000"/>
              <a:gd name="adj2" fmla="val 156401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hift+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58920" y="1514520"/>
            <a:ext cx="2305080" cy="6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332160" y="1682640"/>
            <a:ext cx="2700360" cy="432000"/>
          </a:xfrm>
          <a:prstGeom prst="leftArrow">
            <a:avLst>
              <a:gd name="adj1" fmla="val 50000"/>
              <a:gd name="adj2" fmla="val 156271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hift+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0360" y="1790640"/>
            <a:ext cx="3997080" cy="32400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Abre una nueva línea de com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800" y="179064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32*(1+1/4+1/5)-1/3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71520" y="1574640"/>
            <a:ext cx="3219480" cy="895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31800" y="2114640"/>
            <a:ext cx="3997440" cy="32364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Abre una nueva línea de com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1800" y="2114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1/2+1/3+1/4+1/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84120" y="1467000"/>
            <a:ext cx="3971880" cy="3257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358920" y="1484280"/>
            <a:ext cx="247680" cy="266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951280" y="5697360"/>
            <a:ext cx="55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Ejecutamos el blo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19200" y="125280"/>
            <a:ext cx="4699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bajando con secciones…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95120" y="1268280"/>
            <a:ext cx="7724880" cy="3962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16360" y="4724280"/>
            <a:ext cx="3564000" cy="1081080"/>
          </a:xfrm>
          <a:prstGeom prst="wedgeRoundRectCallout">
            <a:avLst>
              <a:gd name="adj1" fmla="val -127685"/>
              <a:gd name="adj2" fmla="val -90967"/>
              <a:gd name="adj3" fmla="val 16667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Cuando encuentre # al final de una sección indica que debe cerrarla para contin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1330200"/>
            <a:ext cx="1076400" cy="1019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03640" y="728640"/>
            <a:ext cx="432000" cy="647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69736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Dando clic, se crea una nueva sección en la línea que contiene el curs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728640"/>
            <a:ext cx="432000" cy="647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4920" y="1301760"/>
            <a:ext cx="1514520" cy="1371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reo líneas de comando para la nueva s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reo líneas de comando para la s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48000" y="728640"/>
            <a:ext cx="324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Al final, coloco el numeral, </a:t>
            </a:r>
            <a:r>
              <a:rPr b="0" lang="es-VE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, para indicar fin de la s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olocamos el nombre de la s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12760" y="17319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95640" y="170028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La ventana </a:t>
            </a:r>
            <a:br>
              <a:rPr sz="7200"/>
            </a:b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de trabajo en Ma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376280"/>
            <a:ext cx="900000" cy="8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440" y="1228680"/>
            <a:ext cx="59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Berlin Sans FB"/>
              </a:rPr>
              <a:t>Ubicamos el logo de Ma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56800" y="4616280"/>
            <a:ext cx="61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Berlin Sans FB"/>
              </a:rPr>
              <a:t>Para abrir, doble clic al lo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2"/>
          </p:cNvPr>
          <p:cNvSpPr/>
          <p:nvPr/>
        </p:nvSpPr>
        <p:spPr>
          <a:xfrm>
            <a:off x="0" y="1484280"/>
            <a:ext cx="900000" cy="649440"/>
          </a:xfrm>
          <a:custGeom>
            <a:avLst/>
            <a:gdLst>
              <a:gd name="textAreaLeft" fmla="*/ 41760 w 900000"/>
              <a:gd name="textAreaRight" fmla="*/ 858240 w 9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9929" h="21600">
                <a:moveTo>
                  <a:pt x="0" y="0"/>
                </a:moveTo>
                <a:lnTo>
                  <a:pt x="29929" y="0"/>
                </a:lnTo>
                <a:lnTo>
                  <a:pt x="29929" y="21600"/>
                </a:lnTo>
                <a:lnTo>
                  <a:pt x="0" y="21600"/>
                </a:lnTo>
                <a:close/>
              </a:path>
              <a:path fill="lightenLess" w="29929" h="21600">
                <a:moveTo>
                  <a:pt x="0" y="0"/>
                </a:moveTo>
                <a:lnTo>
                  <a:pt x="29929" y="0"/>
                </a:lnTo>
                <a:lnTo>
                  <a:pt x="28529" y="1400"/>
                </a:lnTo>
                <a:lnTo>
                  <a:pt x="1400" y="1400"/>
                </a:lnTo>
                <a:close/>
              </a:path>
              <a:path fill="darken" w="29929" h="21600">
                <a:moveTo>
                  <a:pt x="29929" y="0"/>
                </a:moveTo>
                <a:lnTo>
                  <a:pt x="29929" y="21600"/>
                </a:lnTo>
                <a:lnTo>
                  <a:pt x="28529" y="20200"/>
                </a:lnTo>
                <a:lnTo>
                  <a:pt x="28529" y="1400"/>
                </a:lnTo>
                <a:close/>
              </a:path>
              <a:path fill="darkenLess" w="29929" h="21600">
                <a:moveTo>
                  <a:pt x="29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29" y="20200"/>
                </a:lnTo>
                <a:close/>
              </a:path>
              <a:path fill="lighten" w="29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rando l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lic en la cabec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2760" y="17319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88920" y="1700280"/>
            <a:ext cx="432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rando l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lic en la cabec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560" y="173196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51000" y="1808280"/>
            <a:ext cx="3333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655280" y="0"/>
            <a:ext cx="638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Referenciando los valores ya calculados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256536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Último valor:  %,  </a:t>
            </a:r>
            <a:br>
              <a:rPr sz="3200"/>
            </a:b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penúltimo:  %%,  </a:t>
            </a:r>
            <a:br>
              <a:rPr sz="3200"/>
            </a:b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antepenúltimo:  %%%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2920" y="3636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t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9200" y="1268280"/>
            <a:ext cx="1333800" cy="1038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612936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bloque de comando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3360" y="1268280"/>
            <a:ext cx="5477040" cy="2428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07800" y="2603520"/>
            <a:ext cx="14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0000"/>
                </a:solidFill>
                <a:latin typeface="Courier New"/>
              </a:rPr>
              <a:t>%-%%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2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coman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9200" y="1268280"/>
            <a:ext cx="5448600" cy="2686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07800" y="3060720"/>
            <a:ext cx="11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00"/>
                </a:solidFill>
                <a:latin typeface="Courier New"/>
              </a:rPr>
              <a:t>%-%%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2920" y="6021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9200" y="1293840"/>
            <a:ext cx="5295960" cy="2886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42920" y="526572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¿Qué valor tiene 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2920" y="5805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¿Qué valor tiene %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55640" y="321264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final del tutorial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920" y="159228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600360" y="-1285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Ventana de trabaj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920" y="245736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4920" y="14842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er: Laboratorio de Matemá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artamento de Matemática. Facultad de Ciencias. ULA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00360" y="-135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2 tipos de lín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4145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0000"/>
                </a:solidFill>
                <a:latin typeface="Courier New"/>
              </a:rPr>
              <a:t>1/3 + 1/5 + 1/6 + 1/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4920" y="245736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4920" y="14842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Taller: Laboratorio de Matemá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Departamento de Matemática. Facultad de Ciencias. 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5640" y="-13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Creando líneas de com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24145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0000"/>
                </a:solidFill>
                <a:latin typeface="Courier New"/>
              </a:rPr>
              <a:t>1/3 + 1/5 + 1/6 + 1/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1640" y="24573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6360" y="2997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1/2 + 1/3+1/4+1/5+1/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38440" y="3336840"/>
            <a:ext cx="587520" cy="1063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40360" y="728640"/>
            <a:ext cx="541080" cy="53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160" y="2997360"/>
            <a:ext cx="433440" cy="384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6560" y="591336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ff"/>
                </a:solidFill>
                <a:latin typeface="Times New Roman"/>
              </a:rPr>
              <a:t>Pulsando la tecla &lt;Enter&gt; ejecutamos el com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5280" y="63000"/>
            <a:ext cx="58323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reando una línea de texto.</a:t>
            </a:r>
            <a:r>
              <a:rPr b="1" lang="es-MX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871640" y="24573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55640" y="2565000"/>
            <a:ext cx="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217440" y="16239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99"/>
                </a:solidFill>
                <a:latin typeface="Times New Roman"/>
              </a:rPr>
              <a:t>[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80" y="17002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[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0080" y="1604880"/>
            <a:ext cx="539640" cy="725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0920" y="170028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ociendo el programa 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49560" y="785880"/>
            <a:ext cx="32400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58972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imes New Roman"/>
              </a:rPr>
              <a:t>Clic en el botón : la línea de comando se transforma en línea de tex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605628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imes New Roman"/>
              </a:rPr>
              <a:t>Las líneas de textos se identifican por el color negro del tex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2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9640" y="0"/>
            <a:ext cx="6591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cribiendo un comando..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2920" y="418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imes New Roman"/>
              </a:rPr>
              <a:t>Todo comando debe finalizar con punto y c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154152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2*(33+4/5)-8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2920" y="1484280"/>
            <a:ext cx="504720" cy="399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087640" y="1916280"/>
            <a:ext cx="438120" cy="666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2920" y="472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imes New Roman"/>
              </a:rPr>
              <a:t>Pulsando &lt;Enter&gt; se ejecuta nuestro com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920" y="5373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Las líneas de texto se identifican por el color rojo al escri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3752640"/>
            <a:ext cx="8209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i no colocamos el punto y coma al final del comando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26572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Script MT Bold"/>
              </a:rPr>
              <a:t>Un mensaje de Maple nos informa que el comando está in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é p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" y="4400640"/>
            <a:ext cx="820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in completar el comando lo ejecutamos, pulsamos “Enter”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2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5697360"/>
            <a:ext cx="820872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ahoma"/>
              </a:rPr>
              <a:t>Colocamos el punto y coma al final del comando y ejecutamos nuevamente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7280" y="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letamos el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15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</cp:lastModifiedBy>
  <dcterms:modified xsi:type="dcterms:W3CDTF">2006-09-27T12:49:44Z</dcterms:modified>
  <cp:revision>675</cp:revision>
  <dc:subject/>
  <dc:title>No Slide Title</dc:title>
</cp:coreProperties>
</file>