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FDDC-8CB4-4B85-B18B-139031396636}" type="slidenum">
              <a:rPr b="0" lang="es-V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A7FF-2647-46D8-A750-5BA9E1AB048B}" type="slidenum">
              <a:rPr b="0" lang="es-V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A34A-F503-45DB-B4E5-78A00456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75A-0EA3-4135-8E3E-E0D7898F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C7D-F711-49A2-8067-2237FD4F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E30D-F2BB-440D-8C59-ED52AC1E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C37F-9BC3-4BD7-B3B4-F59B6BC3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334F-FBF0-4478-946E-B4EF3DA4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E21F-E9F0-4BDA-9ACC-62DC0BB6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E4E6-C8A4-4390-9496-23DF8737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2545-39F2-4222-BDF1-798EC770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1172-8A7B-4AAC-84D2-3CB5D7C4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BEF4-A163-4218-8E5A-A32C1A6C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B4E9-0C5C-422B-9657-75BAD426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4BBF-B6EE-41D9-A66D-F5243821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A5D1-3A9B-4BBA-B9D3-D2E03D6C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5678-E8DA-4CE5-946F-97BBADC5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4D9F-E867-4110-8499-D0685299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D794-E139-44F2-BB1B-3DE49154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0D11D-E43A-4931-852A-D61D6880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79F35-7ABB-45E3-94D6-7056C1EF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569CC-13C0-4F7F-8FA2-D133B902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F07F4-B407-4A0B-BD7A-3E51B1D3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761AE-C8C5-4A06-A4D1-8FC68B78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CFF1-AFFB-46D6-907A-808E7B75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72695-71C9-4060-A7E1-86548089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539C4-E1CF-4BA8-8544-5230442B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509E1-3C4D-4E13-A13C-32D92C95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EEDFF-8B8E-4EF9-B096-588392CC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F8FC3-3DBB-42F8-A511-944B4EE4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B6136-568F-4D34-B06F-914D33DD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9CCCF-A64A-4840-9831-6721F43D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CDD09-BE00-445E-AB89-4B463CB2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E2CB0-5681-43EF-A12A-F88E067A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7C796-DBD8-44D1-B7F4-1EA2DB2B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ED87-155D-47E5-BFDC-1A3E575E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C6CAA-2962-499F-B67C-13E7C27C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74A9C-9250-4966-B233-27C2AA24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87050-0D62-4A2A-AE3A-47F4B089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C2B3C-1A47-440C-A6AD-7EE53F7A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7503B-5382-4CD1-A50A-7EDA3502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AFCF9-E259-4A3A-8C8E-563A8198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F0E91-06F8-4F75-AFDF-6339B46F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40645-683D-43E7-B3FB-682A6C92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75C51-D976-4AC0-B297-1801A334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88075-B22C-47BD-9898-56DCE2DD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676-2333-47A6-8DCE-7A0DF156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6BE1D-0A1B-4D1E-A69C-81CB1627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82D61-144F-4105-9C3C-5B9BE9C1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EAEBF-B0DA-452B-A9A6-DE54A04F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DAF30-56FE-4299-8775-CB8E357F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48DED-7733-470E-9AAA-1CF89072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F04BA-C4AD-4863-B744-F83B846E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C251A-06EC-42F1-9349-8D89E22A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CA895-FAC5-492B-8EE3-F2BB2A9D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F33AD-8FBC-44D7-9A88-03D7D6B0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858AD-8CED-4C21-85C4-0CA45318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E624-A113-4E1B-8CDC-F21B8590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FB1FE-D44D-455A-9109-C75E20B9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D12-4FDC-4DF3-9B74-198F6C80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01C-55E5-4F8E-AD31-D5FF79D4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069D-C7CE-4B33-B70B-25327CA4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2FA4-5395-421F-9020-6DC4B800735C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" name="Picture 21" descr="patron_diapositiv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4B62-3B3E-460F-B167-C2FFB1D8A7E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A596-576D-4CC9-B186-D2082405888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ventana_sin_linea_comando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1716-265C-4EEE-ACAA-5022C87B34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8" descr="ventana_sin_linea_comando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81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82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88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2C56-C2C1-49B7-A151-C5250026DE5E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6"/>
          <p:cNvSpPr/>
          <p:nvPr/>
        </p:nvSpPr>
        <p:spPr>
          <a:xfrm>
            <a:off x="1692360" y="1413000"/>
            <a:ext cx="486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800" spc="-1" strike="noStrike">
                <a:solidFill>
                  <a:srgbClr val="ffffff"/>
                </a:solidFill>
                <a:latin typeface="Times New Roman"/>
              </a:rPr>
              <a:t>Manejo Simbólico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195640" y="-1206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Viendo el valor que tiene variable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Viendo el valor de la variable 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6" descr=""/>
          <p:cNvPicPr/>
          <p:nvPr/>
        </p:nvPicPr>
        <p:blipFill>
          <a:blip r:embed="rId1"/>
          <a:stretch/>
        </p:blipFill>
        <p:spPr>
          <a:xfrm>
            <a:off x="135000" y="1125360"/>
            <a:ext cx="4724280" cy="1133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7"/>
          <p:cNvSpPr/>
          <p:nvPr/>
        </p:nvSpPr>
        <p:spPr>
          <a:xfrm>
            <a:off x="503280" y="19162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P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Picture 8" descr=""/>
          <p:cNvPicPr/>
          <p:nvPr/>
        </p:nvPicPr>
        <p:blipFill>
          <a:blip r:embed="rId2"/>
          <a:stretch/>
        </p:blipFill>
        <p:spPr>
          <a:xfrm>
            <a:off x="127080" y="1157400"/>
            <a:ext cx="46479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2195640" y="-1206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Viendo el valor que tiene variable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Viendo el valor de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infi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1"/>
          <a:stretch/>
        </p:blipFill>
        <p:spPr>
          <a:xfrm>
            <a:off x="127080" y="1197000"/>
            <a:ext cx="4647960" cy="151452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395280" y="240660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infinity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2"/>
          <a:stretch/>
        </p:blipFill>
        <p:spPr>
          <a:xfrm>
            <a:off x="203040" y="1238400"/>
            <a:ext cx="4695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2195640" y="-1206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Variables que no tienen valor asignado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Viendo el valor de una variable nue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695840" cy="19526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95280" y="267336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lgebr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Picture 7" descr=""/>
          <p:cNvPicPr/>
          <p:nvPr/>
        </p:nvPicPr>
        <p:blipFill>
          <a:blip r:embed="rId2"/>
          <a:stretch/>
        </p:blipFill>
        <p:spPr>
          <a:xfrm>
            <a:off x="179280" y="1071720"/>
            <a:ext cx="4610160" cy="242856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8"/>
          <p:cNvSpPr/>
          <p:nvPr/>
        </p:nvSpPr>
        <p:spPr>
          <a:xfrm>
            <a:off x="4680000" y="2852640"/>
            <a:ext cx="2879640" cy="468360"/>
          </a:xfrm>
          <a:prstGeom prst="leftArrow">
            <a:avLst>
              <a:gd name="adj1" fmla="val 50000"/>
              <a:gd name="adj2" fmla="val 153709"/>
            </a:avLst>
          </a:prstGeom>
          <a:solidFill>
            <a:srgbClr val="ffff99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9999"/>
                </a:solidFill>
                <a:latin typeface="Times New Roman"/>
              </a:rPr>
              <a:t>El mismo nombre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2195640" y="-1206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Valores previamente asignados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Algunos valores notables están previamente definido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79280" y="119700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cos(Pi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Picture 9" descr=""/>
          <p:cNvPicPr/>
          <p:nvPr/>
        </p:nvPicPr>
        <p:blipFill>
          <a:blip r:embed="rId1"/>
          <a:stretch/>
        </p:blipFill>
        <p:spPr>
          <a:xfrm>
            <a:off x="216000" y="1233360"/>
            <a:ext cx="4352760" cy="733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0"/>
          <p:cNvSpPr/>
          <p:nvPr/>
        </p:nvSpPr>
        <p:spPr>
          <a:xfrm>
            <a:off x="468360" y="1641600"/>
            <a:ext cx="24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cos(Pi/2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Picture 11" descr=""/>
          <p:cNvPicPr/>
          <p:nvPr/>
        </p:nvPicPr>
        <p:blipFill>
          <a:blip r:embed="rId2"/>
          <a:stretch/>
        </p:blipFill>
        <p:spPr>
          <a:xfrm>
            <a:off x="223920" y="1279440"/>
            <a:ext cx="42386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2195640" y="14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No todo está asign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Algunos valores son exactos, simbó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7" descr=""/>
          <p:cNvPicPr/>
          <p:nvPr/>
        </p:nvPicPr>
        <p:blipFill>
          <a:blip r:embed="rId1"/>
          <a:stretch/>
        </p:blipFill>
        <p:spPr>
          <a:xfrm>
            <a:off x="117360" y="1160640"/>
            <a:ext cx="4238640" cy="110484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6"/>
          <p:cNvSpPr/>
          <p:nvPr/>
        </p:nvSpPr>
        <p:spPr>
          <a:xfrm>
            <a:off x="358920" y="1967040"/>
            <a:ext cx="24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cos(Pi/5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9" descr=""/>
          <p:cNvPicPr/>
          <p:nvPr/>
        </p:nvPicPr>
        <p:blipFill>
          <a:blip r:embed="rId2"/>
          <a:stretch/>
        </p:blipFill>
        <p:spPr>
          <a:xfrm>
            <a:off x="165240" y="1160640"/>
            <a:ext cx="443844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2195640" y="14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No todo está asign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Si queremos aproximaciones, lo indicamos explícit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6" descr=""/>
          <p:cNvPicPr/>
          <p:nvPr/>
        </p:nvPicPr>
        <p:blipFill>
          <a:blip r:embed="rId1"/>
          <a:stretch/>
        </p:blipFill>
        <p:spPr>
          <a:xfrm>
            <a:off x="179280" y="1160640"/>
            <a:ext cx="4438800" cy="136188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5"/>
          <p:cNvSpPr/>
          <p:nvPr/>
        </p:nvSpPr>
        <p:spPr>
          <a:xfrm>
            <a:off x="395280" y="2241720"/>
            <a:ext cx="24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evalf(%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7" descr=""/>
          <p:cNvPicPr/>
          <p:nvPr/>
        </p:nvPicPr>
        <p:blipFill>
          <a:blip r:embed="rId2"/>
          <a:stretch/>
        </p:blipFill>
        <p:spPr>
          <a:xfrm>
            <a:off x="200160" y="1197000"/>
            <a:ext cx="4524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2195640" y="14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Nombres no permit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54080" y="52912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¿Qué? Si usamos nombres no permit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79280" y="1268280"/>
            <a:ext cx="24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 Aristides Arellan:=1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7" descr=""/>
          <p:cNvPicPr/>
          <p:nvPr/>
        </p:nvPicPr>
        <p:blipFill>
          <a:blip r:embed="rId1"/>
          <a:stretch/>
        </p:blipFill>
        <p:spPr>
          <a:xfrm>
            <a:off x="216000" y="1268280"/>
            <a:ext cx="2657520" cy="6480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8"/>
          <p:cNvSpPr/>
          <p:nvPr/>
        </p:nvSpPr>
        <p:spPr>
          <a:xfrm>
            <a:off x="108000" y="614052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Maple nos indica error en el comando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2195640" y="14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Nombres no permit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¿Quél error tiene el comand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tretch/>
        </p:blipFill>
        <p:spPr>
          <a:xfrm>
            <a:off x="201600" y="1160640"/>
            <a:ext cx="2533680" cy="6188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tretch/>
        </p:blipFill>
        <p:spPr>
          <a:xfrm>
            <a:off x="431640" y="3933720"/>
            <a:ext cx="6408720" cy="1689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4"/>
          <p:cNvSpPr/>
          <p:nvPr/>
        </p:nvSpPr>
        <p:spPr>
          <a:xfrm>
            <a:off x="216000" y="1125360"/>
            <a:ext cx="24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 Aristides_Arellan:=1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Picture 9" descr=""/>
          <p:cNvPicPr/>
          <p:nvPr/>
        </p:nvPicPr>
        <p:blipFill>
          <a:blip r:embed="rId3"/>
          <a:stretch/>
        </p:blipFill>
        <p:spPr>
          <a:xfrm>
            <a:off x="210960" y="1125360"/>
            <a:ext cx="46674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3743280" y="144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Dos cosas diferentes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Mucho cuidado con el número Pi y la letra griega 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79280" y="1268280"/>
            <a:ext cx="24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 Pi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7199280" y="-1116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urier New"/>
              </a:rPr>
              <a:t>Pi </a:t>
            </a:r>
            <a:r>
              <a:rPr b="1" lang="es-ES" sz="1800" spc="-1" strike="noStrike">
                <a:solidFill>
                  <a:srgbClr val="808080"/>
                </a:solidFill>
                <a:latin typeface="Courier New"/>
              </a:rPr>
              <a:t>y</a:t>
            </a:r>
            <a:r>
              <a:rPr b="1" lang="es-ES" sz="1800" spc="-1" strike="noStrike">
                <a:solidFill>
                  <a:srgbClr val="ff0000"/>
                </a:solidFill>
                <a:latin typeface="Courier New"/>
              </a:rPr>
              <a:t> 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Picture 8" descr=""/>
          <p:cNvPicPr/>
          <p:nvPr/>
        </p:nvPicPr>
        <p:blipFill>
          <a:blip r:embed="rId1"/>
          <a:stretch/>
        </p:blipFill>
        <p:spPr>
          <a:xfrm>
            <a:off x="250920" y="1305000"/>
            <a:ext cx="4162320" cy="6570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9"/>
          <p:cNvSpPr/>
          <p:nvPr/>
        </p:nvSpPr>
        <p:spPr>
          <a:xfrm>
            <a:off x="468360" y="166536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evalf(Pi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Picture 10" descr=""/>
          <p:cNvPicPr/>
          <p:nvPr/>
        </p:nvPicPr>
        <p:blipFill>
          <a:blip r:embed="rId2"/>
          <a:stretch/>
        </p:blipFill>
        <p:spPr>
          <a:xfrm>
            <a:off x="216000" y="1305000"/>
            <a:ext cx="48481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3743280" y="144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Dos cosas diferentes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La letra griega pi (minúscul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7199280" y="-1116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urier New"/>
              </a:rPr>
              <a:t>Pi </a:t>
            </a:r>
            <a:r>
              <a:rPr b="1" lang="es-ES" sz="1800" spc="-1" strike="noStrike">
                <a:solidFill>
                  <a:srgbClr val="808080"/>
                </a:solidFill>
                <a:latin typeface="Courier New"/>
              </a:rPr>
              <a:t>y</a:t>
            </a:r>
            <a:r>
              <a:rPr b="1" lang="es-ES" sz="1800" spc="-1" strike="noStrike">
                <a:solidFill>
                  <a:srgbClr val="ff0000"/>
                </a:solidFill>
                <a:latin typeface="Courier New"/>
              </a:rPr>
              <a:t> 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Picture 8" descr=""/>
          <p:cNvPicPr/>
          <p:nvPr/>
        </p:nvPicPr>
        <p:blipFill>
          <a:blip r:embed="rId1"/>
          <a:stretch/>
        </p:blipFill>
        <p:spPr>
          <a:xfrm>
            <a:off x="142920" y="1160640"/>
            <a:ext cx="4848120" cy="112392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7"/>
          <p:cNvSpPr/>
          <p:nvPr/>
        </p:nvSpPr>
        <p:spPr>
          <a:xfrm>
            <a:off x="395280" y="19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p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7" name="Picture 9" descr=""/>
          <p:cNvPicPr/>
          <p:nvPr/>
        </p:nvPicPr>
        <p:blipFill>
          <a:blip r:embed="rId2"/>
          <a:stretch/>
        </p:blipFill>
        <p:spPr>
          <a:xfrm>
            <a:off x="216000" y="1197000"/>
            <a:ext cx="50194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4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3780000" y="-120600"/>
            <a:ext cx="39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tencil"/>
              </a:rPr>
              <a:t>Definiendo variables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7308720" y="-6336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Stencil"/>
              </a:rPr>
              <a:t>:=</a:t>
            </a:r>
            <a:r>
              <a:rPr b="1" lang="es-E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42920" y="569736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“dos punto con igual” es una unidad que usamos para definir y asignar valores a las varia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3743280" y="144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Dos cosas diferentes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La letra griega pi, no es un núm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7199280" y="-1116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urier New"/>
              </a:rPr>
              <a:t>Pi </a:t>
            </a:r>
            <a:r>
              <a:rPr b="1" lang="es-ES" sz="1800" spc="-1" strike="noStrike">
                <a:solidFill>
                  <a:srgbClr val="808080"/>
                </a:solidFill>
                <a:latin typeface="Courier New"/>
              </a:rPr>
              <a:t>y</a:t>
            </a:r>
            <a:r>
              <a:rPr b="1" lang="es-ES" sz="1800" spc="-1" strike="noStrike">
                <a:solidFill>
                  <a:srgbClr val="ff0000"/>
                </a:solidFill>
                <a:latin typeface="Courier New"/>
              </a:rPr>
              <a:t> 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Picture 7" descr=""/>
          <p:cNvPicPr/>
          <p:nvPr/>
        </p:nvPicPr>
        <p:blipFill>
          <a:blip r:embed="rId1"/>
          <a:stretch/>
        </p:blipFill>
        <p:spPr>
          <a:xfrm>
            <a:off x="200160" y="1089000"/>
            <a:ext cx="5019480" cy="20858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6"/>
          <p:cNvSpPr/>
          <p:nvPr/>
        </p:nvSpPr>
        <p:spPr>
          <a:xfrm>
            <a:off x="431640" y="2276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evalf(pi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3" name="Picture 8" descr=""/>
          <p:cNvPicPr/>
          <p:nvPr/>
        </p:nvPicPr>
        <p:blipFill>
          <a:blip r:embed="rId2"/>
          <a:stretch/>
        </p:blipFill>
        <p:spPr>
          <a:xfrm>
            <a:off x="179280" y="1089000"/>
            <a:ext cx="487692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4753080" y="14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Todas las letras grieg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34920" y="626580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9900"/>
                </a:solidFill>
                <a:latin typeface="Times New Roman"/>
              </a:rPr>
              <a:t>Las letras griegas se referencian con sus respectivos nombres en ing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216000" y="1089000"/>
            <a:ext cx="3851280" cy="55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alpha          alpha        Alpha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beta           beta         Beta *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gamma          gamma *      Gamma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delta          delta        Delta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epsilon        epsilon      Epsilo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zeta           zeta         ZETA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eta            eta          Eta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theta          theta        Theta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iota           iota         Iota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kappa          kappa        Kappa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lambda         lambda       Lambda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mu             mu           Mu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nu             nu           Nu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xi             xi           Xi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omicron        omicron      Omicro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pi             pi           PI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rho            rho          Rho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sigma          sigma        Sigma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tau            tau          Tau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upsilon        upsilon      Upsilo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phi            phi          Phi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chi            chi          CHI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psi            psi          Psi *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omega          omega        Omega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7" name="Picture 11" descr="LETRAS_GREEK"/>
          <p:cNvPicPr/>
          <p:nvPr/>
        </p:nvPicPr>
        <p:blipFill>
          <a:blip r:embed="rId1"/>
          <a:stretch/>
        </p:blipFill>
        <p:spPr>
          <a:xfrm>
            <a:off x="4500720" y="1952640"/>
            <a:ext cx="27223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3708360" y="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Trabajando con Letras grieg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Una identidad conocida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9280" y="1233360"/>
            <a:ext cx="69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cos(alpha+beta)=expand(cos(alpha+beta)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1" name="Picture 8" descr=""/>
          <p:cNvPicPr/>
          <p:nvPr/>
        </p:nvPicPr>
        <p:blipFill>
          <a:blip r:embed="rId1"/>
          <a:stretch/>
        </p:blipFill>
        <p:spPr>
          <a:xfrm>
            <a:off x="263520" y="1290600"/>
            <a:ext cx="56768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224000" y="14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Stencil"/>
              </a:rPr>
              <a:t>Nombres reservados al sistema Ma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42920" y="4184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Los nombres de los comandos  el usuario no puede usarlo como nombre de sus varia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431640" y="2276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Otros nombres del siste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142920" y="526572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Los nombres de las constantes como </a:t>
            </a:r>
            <a:r>
              <a:rPr b="0" lang="es-VE" sz="2400" spc="-1" strike="noStrike">
                <a:solidFill>
                  <a:srgbClr val="ff0000"/>
                </a:solidFill>
                <a:latin typeface="Times New Roman"/>
              </a:rPr>
              <a:t>Pi, Digits</a:t>
            </a: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,..tampoco son permitidas al usu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Picture 9" descr="palabras_reservadas"/>
          <p:cNvPicPr/>
          <p:nvPr/>
        </p:nvPicPr>
        <p:blipFill>
          <a:blip r:embed="rId1"/>
          <a:stretch/>
        </p:blipFill>
        <p:spPr>
          <a:xfrm>
            <a:off x="4103640" y="1160640"/>
            <a:ext cx="275904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3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920"/>
                            </p:stCondLst>
                            <p:childTnLst>
                              <p:par>
                                <p:cTn id="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1943280" y="-100080"/>
            <a:ext cx="6300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rabajando con variable</a:t>
            </a:r>
            <a:r>
              <a:rPr b="0" lang="es-MX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79280" y="144936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masa:=5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0" y="6093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Las operaciones sobre una variable no alteran el valor de la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Picture 15" descr=""/>
          <p:cNvPicPr/>
          <p:nvPr/>
        </p:nvPicPr>
        <p:blipFill>
          <a:blip r:embed="rId1"/>
          <a:stretch/>
        </p:blipFill>
        <p:spPr>
          <a:xfrm>
            <a:off x="216000" y="1449360"/>
            <a:ext cx="4438440" cy="7714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468360" y="1844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masa2:=masa^2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Picture 16" descr=""/>
          <p:cNvPicPr/>
          <p:nvPr/>
        </p:nvPicPr>
        <p:blipFill>
          <a:blip r:embed="rId2"/>
          <a:stretch/>
        </p:blipFill>
        <p:spPr>
          <a:xfrm>
            <a:off x="250920" y="1449360"/>
            <a:ext cx="4676760" cy="11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7" descr=""/>
          <p:cNvPicPr/>
          <p:nvPr/>
        </p:nvPicPr>
        <p:blipFill>
          <a:blip r:embed="rId1"/>
          <a:stretch/>
        </p:blipFill>
        <p:spPr>
          <a:xfrm>
            <a:off x="71280" y="1125360"/>
            <a:ext cx="4676760" cy="111456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2"/>
          <p:cNvSpPr/>
          <p:nvPr/>
        </p:nvSpPr>
        <p:spPr>
          <a:xfrm>
            <a:off x="1943280" y="-100080"/>
            <a:ext cx="6300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rabajando con variable</a:t>
            </a:r>
            <a:r>
              <a:rPr b="0" lang="es-MX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142920" y="61754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La variable masa conserva el valor asign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468360" y="19162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mas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7" name="Picture 8" descr=""/>
          <p:cNvPicPr/>
          <p:nvPr/>
        </p:nvPicPr>
        <p:blipFill>
          <a:blip r:embed="rId2"/>
          <a:stretch/>
        </p:blipFill>
        <p:spPr>
          <a:xfrm>
            <a:off x="108000" y="1125360"/>
            <a:ext cx="4581360" cy="15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"/>
          <p:cNvSpPr/>
          <p:nvPr/>
        </p:nvSpPr>
        <p:spPr>
          <a:xfrm>
            <a:off x="1943280" y="-100080"/>
            <a:ext cx="6300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iminando el valor que tiene una variable</a:t>
            </a:r>
            <a:r>
              <a:rPr b="0" lang="es-MX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142920" y="61754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ncerramos el nombre de la variable entre apóstrof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0" name="Picture 6" descr=""/>
          <p:cNvPicPr/>
          <p:nvPr/>
        </p:nvPicPr>
        <p:blipFill>
          <a:blip r:embed="rId1"/>
          <a:stretch/>
        </p:blipFill>
        <p:spPr>
          <a:xfrm>
            <a:off x="135000" y="1233360"/>
            <a:ext cx="4581360" cy="150516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5"/>
          <p:cNvSpPr/>
          <p:nvPr/>
        </p:nvSpPr>
        <p:spPr>
          <a:xfrm>
            <a:off x="431640" y="238428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masa:= ‘masa’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2" name="Picture 7" descr=""/>
          <p:cNvPicPr/>
          <p:nvPr/>
        </p:nvPicPr>
        <p:blipFill>
          <a:blip r:embed="rId2"/>
          <a:stretch/>
        </p:blipFill>
        <p:spPr>
          <a:xfrm>
            <a:off x="142920" y="1197000"/>
            <a:ext cx="4667040" cy="1942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1943280" y="-100080"/>
            <a:ext cx="6300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iminando el valor que tiene una variable</a:t>
            </a:r>
            <a:r>
              <a:rPr b="0" lang="es-MX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42920" y="61754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Viendo el valor que tiene la variable m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42920" y="1125360"/>
            <a:ext cx="4667040" cy="194328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5"/>
          <p:cNvSpPr/>
          <p:nvPr/>
        </p:nvSpPr>
        <p:spPr>
          <a:xfrm>
            <a:off x="431640" y="278136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mas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2"/>
          <a:stretch/>
        </p:blipFill>
        <p:spPr>
          <a:xfrm>
            <a:off x="179280" y="1160640"/>
            <a:ext cx="5019840" cy="23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4894200" y="7920"/>
            <a:ext cx="2702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l símbolo igual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9" name="Picture 14" descr="signo_igual"/>
          <p:cNvPicPr/>
          <p:nvPr/>
        </p:nvPicPr>
        <p:blipFill>
          <a:blip r:embed="rId1"/>
          <a:stretch/>
        </p:blipFill>
        <p:spPr>
          <a:xfrm>
            <a:off x="7667640" y="0"/>
            <a:ext cx="514440" cy="2952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15"/>
          <p:cNvSpPr/>
          <p:nvPr/>
        </p:nvSpPr>
        <p:spPr>
          <a:xfrm>
            <a:off x="250920" y="6058080"/>
            <a:ext cx="70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9900"/>
                </a:solidFill>
                <a:latin typeface="Times New Roman"/>
              </a:rPr>
              <a:t>Sea usa en Maple para crear ecu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142920" y="1268280"/>
            <a:ext cx="39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ec:= a^2=b^2 + c^2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Picture 25" descr=""/>
          <p:cNvPicPr/>
          <p:nvPr/>
        </p:nvPicPr>
        <p:blipFill>
          <a:blip r:embed="rId2"/>
          <a:stretch/>
        </p:blipFill>
        <p:spPr>
          <a:xfrm>
            <a:off x="216000" y="1305000"/>
            <a:ext cx="4905360" cy="80964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8"/>
          <p:cNvSpPr/>
          <p:nvPr/>
        </p:nvSpPr>
        <p:spPr>
          <a:xfrm>
            <a:off x="431640" y="1755720"/>
            <a:ext cx="39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ec:= a^2=b^2 + c^2: %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4" name="Picture 26" descr=""/>
          <p:cNvPicPr/>
          <p:nvPr/>
        </p:nvPicPr>
        <p:blipFill>
          <a:blip r:embed="rId3"/>
          <a:stretch/>
        </p:blipFill>
        <p:spPr>
          <a:xfrm>
            <a:off x="192240" y="1305000"/>
            <a:ext cx="4876560" cy="13618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21"/>
          <p:cNvSpPr/>
          <p:nvPr/>
        </p:nvSpPr>
        <p:spPr>
          <a:xfrm>
            <a:off x="431640" y="2313000"/>
            <a:ext cx="39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ec2:= sin(x)^2+cos(x)^2=1:%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Picture 27" descr=""/>
          <p:cNvPicPr/>
          <p:nvPr/>
        </p:nvPicPr>
        <p:blipFill>
          <a:blip r:embed="rId4"/>
          <a:stretch/>
        </p:blipFill>
        <p:spPr>
          <a:xfrm>
            <a:off x="216000" y="1305000"/>
            <a:ext cx="4857480" cy="180972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23"/>
          <p:cNvSpPr/>
          <p:nvPr/>
        </p:nvSpPr>
        <p:spPr>
          <a:xfrm>
            <a:off x="468360" y="2852640"/>
            <a:ext cx="39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ec2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8" name="Picture 28" descr=""/>
          <p:cNvPicPr/>
          <p:nvPr/>
        </p:nvPicPr>
        <p:blipFill>
          <a:blip r:embed="rId5"/>
          <a:stretch/>
        </p:blipFill>
        <p:spPr>
          <a:xfrm>
            <a:off x="250920" y="1341360"/>
            <a:ext cx="5267160" cy="230508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29"/>
          <p:cNvSpPr/>
          <p:nvPr/>
        </p:nvSpPr>
        <p:spPr>
          <a:xfrm>
            <a:off x="5148360" y="18446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bbe0e3"/>
                </a:solidFill>
                <a:latin typeface="Times New Roman"/>
              </a:rPr>
              <a:t>Note la diferencia de salida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4894200" y="7920"/>
            <a:ext cx="2702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l símbolo igual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900000" y="314172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09900"/>
                </a:solidFill>
                <a:latin typeface="Times New Roman"/>
              </a:rPr>
              <a:t>Final del tutorial…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692360" y="-11448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tencil"/>
              </a:rPr>
              <a:t>Algoritmo para los nombres de variables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Todo nombre dado por el usuario debe iniciarse con una le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792000" y="2060640"/>
            <a:ext cx="6409080" cy="168912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7"/>
          <p:cNvSpPr/>
          <p:nvPr/>
        </p:nvSpPr>
        <p:spPr>
          <a:xfrm>
            <a:off x="1727280" y="2457360"/>
            <a:ext cx="1619280" cy="1584360"/>
          </a:xfrm>
          <a:prstGeom prst="irregularSeal1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1692360" y="-11448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tencil"/>
              </a:rPr>
              <a:t>Algoritmo para los nombres de variables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Ejemplos de nombres permitidos para las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792000" y="1305000"/>
            <a:ext cx="6409080" cy="16891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1"/>
          <p:cNvSpPr/>
          <p:nvPr/>
        </p:nvSpPr>
        <p:spPr>
          <a:xfrm>
            <a:off x="395280" y="3392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395280" y="41497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395280" y="47610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395280" y="54450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_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692360" y="-11448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tencil"/>
              </a:rPr>
              <a:t>Algoritmo para los nombres de variables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Nombres no permit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792000" y="1305000"/>
            <a:ext cx="6409080" cy="16891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5"/>
          <p:cNvSpPr/>
          <p:nvPr/>
        </p:nvSpPr>
        <p:spPr>
          <a:xfrm>
            <a:off x="395280" y="3392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95280" y="41497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47610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395280" y="54450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_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3419640" y="3392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2m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3419640" y="41353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^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3419640" y="48798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/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3419640" y="5624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1692360" y="-11448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tencil"/>
              </a:rPr>
              <a:t>Algoritmo para los nombres de variables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Nombres (variables) difer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792000" y="1305000"/>
            <a:ext cx="6409080" cy="16891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5"/>
          <p:cNvSpPr/>
          <p:nvPr/>
        </p:nvSpPr>
        <p:spPr>
          <a:xfrm>
            <a:off x="395280" y="3392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395280" y="41497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395280" y="47610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395280" y="54450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_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3419640" y="3392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2m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419640" y="41353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^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3419640" y="48798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/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3419640" y="5624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AutoShape 13"/>
          <p:cNvSpPr/>
          <p:nvPr/>
        </p:nvSpPr>
        <p:spPr>
          <a:xfrm rot="2688000">
            <a:off x="1193400" y="4630680"/>
            <a:ext cx="2627280" cy="503280"/>
          </a:xfrm>
          <a:prstGeom prst="leftRightArrow">
            <a:avLst>
              <a:gd name="adj1" fmla="val 50000"/>
              <a:gd name="adj2" fmla="val 103923"/>
            </a:avLst>
          </a:prstGeom>
          <a:solidFill>
            <a:srgbClr val="cc99ff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2195640" y="-1206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Dándole valor a una variable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Los valores se asignan con la unidad “dos punto-igua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216000" y="130500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0" lang="es-ES" sz="1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velocidad:=6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2195640" y="-1206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Dándole valor a una variable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Al ejecutar se crea la variable “velocidad” con el valor de 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216000" y="130500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0" lang="es-ES" sz="1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velocidad:=6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5" descr=""/>
          <p:cNvPicPr/>
          <p:nvPr/>
        </p:nvPicPr>
        <p:blipFill>
          <a:blip r:embed="rId1"/>
          <a:stretch/>
        </p:blipFill>
        <p:spPr>
          <a:xfrm>
            <a:off x="287280" y="1305000"/>
            <a:ext cx="45435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195640" y="-1206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Viendo el valor que tiene variable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Para ello, escribimos el valor de la variable y ejecutamo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179280" y="1160640"/>
            <a:ext cx="4543560" cy="7714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431640" y="1576440"/>
            <a:ext cx="48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velocidad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6" descr=""/>
          <p:cNvPicPr/>
          <p:nvPr/>
        </p:nvPicPr>
        <p:blipFill>
          <a:blip r:embed="rId2"/>
          <a:stretch/>
        </p:blipFill>
        <p:spPr>
          <a:xfrm>
            <a:off x="179280" y="1233360"/>
            <a:ext cx="47246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4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19:58:59Z</dcterms:created>
  <dc:creator>Michael Stuart</dc:creator>
  <dc:description/>
  <dc:language>en-US</dc:language>
  <cp:lastModifiedBy>Noemi</cp:lastModifiedBy>
  <dcterms:modified xsi:type="dcterms:W3CDTF">2009-12-08T12:52:45Z</dcterms:modified>
  <cp:revision>601</cp:revision>
  <dc:subject/>
  <dc:title>No Slide Title</dc:title>
</cp:coreProperties>
</file>