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001-3B40-43D7-B0FB-D891CCA2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9DB-4170-4B8A-9732-9BFA05D1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243-134E-4CF9-9391-8D03A718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992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24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992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24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E79-F08F-4FD6-AD6A-CBA88563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545-4B1D-4D2E-9BC2-46DBF32C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902-6187-4E51-91E9-C1722480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97F-DB83-4106-A5AF-357A603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E7F-E7AF-44DD-B4F5-9DCACD5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FA1-9335-487D-932E-DA77E3F9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D6F9-118C-4A7F-940A-EBA51B8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5A2F-88D6-4080-8EDE-CBC7D69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F8D-9286-4EA2-B80E-E968A32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3E07-760E-41C8-B0CA-59C1381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4E82-B284-44DC-ADAB-765DCD85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CE8-11B8-4C63-809D-9957E4B6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2945-7ADE-4F5A-B88A-A5C05513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3992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124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3992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124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91E-14F3-42C5-84B4-7F153F77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04F-CAAD-4CC8-97B8-0659328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AAE-8B43-4ED2-BC8F-54555B88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302-BDEC-48C4-8BBA-999676AE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4C9-5656-4445-9F2F-3F07098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622-7DDA-4049-8977-52F44C5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F41-3E33-4650-A4D9-742C432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9DE-45A4-46D2-B8B0-8255DDCF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badi MT Condensed Light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1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1" marL="343080" indent="-343080">
              <a:spcBef>
                <a:spcPts val="799"/>
              </a:spcBef>
              <a:buClr>
                <a:srgbClr val="ffe69f"/>
              </a:buClr>
              <a:buFont typeface="Abadi MT Condensed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2" marL="343080" indent="-343080">
              <a:spcBef>
                <a:spcPts val="799"/>
              </a:spcBef>
              <a:buClr>
                <a:srgbClr val="ffff99"/>
              </a:buClr>
              <a:buFont typeface="Abadi MT Condensed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3" marL="343080" indent="-343080">
              <a:spcBef>
                <a:spcPts val="799"/>
              </a:spcBef>
              <a:buClr>
                <a:srgbClr val="ffffcc"/>
              </a:buClr>
              <a:buFont typeface="Abadi MT Condensed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4776-3824-464C-86C9-347AFF2D2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badi MT Condensed Light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0964-B6F9-46B0-B1FB-CDFCE5560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9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e69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871640" y="1160640"/>
            <a:ext cx="5508720" cy="47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jetos 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 Maple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imes New Roman"/>
              </a:rPr>
              <a:t>Listas en Maple: 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6000" y="167472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ista es la estructura más usada en Ma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samos corchetes para definir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a lista es una sucesión encerrada entre corche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y  repeticion en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rgumentos naturales de varios de los coman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[a,b,c], [c,b,a] son dos listas dife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32000" y="12430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:=[ sin , cos , tan , cot, sec, csc];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00240" y="1413000"/>
            <a:ext cx="4524120" cy="628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03280" y="1773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7801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orte"/>
              </a:rPr>
              <a:t>Referenciando elementos de la 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198440" y="1844640"/>
            <a:ext cx="3829320" cy="657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03280" y="2205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..4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224000" y="228600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03280" y="2637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3..-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187280" y="2708280"/>
            <a:ext cx="4143600" cy="6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0000" y="3068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L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224000" y="3141720"/>
            <a:ext cx="3828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3280" y="368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1280" y="270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050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11640" y="2565360"/>
            <a:ext cx="3552840" cy="2085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33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16360" y="4059360"/>
            <a:ext cx="104760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081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nops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5769000"/>
            <a:ext cx="1187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1592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197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8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(a+b)^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68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57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1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4618080"/>
            <a:ext cx="1187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6360" y="1881360"/>
            <a:ext cx="718920" cy="67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688000" y="1457280"/>
            <a:ext cx="2800440" cy="197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808360" y="3500280"/>
            <a:ext cx="1473120" cy="671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920" y="5657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2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697360"/>
            <a:ext cx="118764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r una función a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onent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023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0" y="2637000"/>
            <a:ext cx="2571840" cy="19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3280" y="494172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f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92720" y="54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896000" y="1197000"/>
            <a:ext cx="2571480" cy="193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342900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sin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67280" y="3429000"/>
            <a:ext cx="2371680" cy="19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303640" y="4834080"/>
            <a:ext cx="153324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26828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 una función a los componentes de dos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95264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zip(f, [a,b,c],[x,y,z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44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6804000" cy="135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771560"/>
            <a:ext cx="70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expr:=(x^2+3)/(x+1)+(x^2+1)+3+2*x: exp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24360" y="2276640"/>
            <a:ext cx="2663640" cy="923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3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87640" y="4041720"/>
            <a:ext cx="2581200" cy="857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7280" y="5119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4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44680" y="5700600"/>
            <a:ext cx="2372040" cy="752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771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alg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7280" y="5119560"/>
            <a:ext cx="56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lgsubs</a:t>
            </a: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(a+d=Q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59280" y="2313000"/>
            <a:ext cx="2247840" cy="627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580000" y="238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orte"/>
              </a:rPr>
              <a:t>No hay cam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220824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600360" y="5697360"/>
            <a:ext cx="1908360" cy="793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2619360"/>
            <a:ext cx="845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macena e identifica los elementos que man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uctura que tiene los obje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ferentes representación de un mismo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endo las partes internas de un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mbiando un objeto actuando en sus partes inter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12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expr:=2*y+(3+2*x/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4000" y="144936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cript MT Bold"/>
              </a:rPr>
              <a:t>Objeto interno en 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5080" y="198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Maple, intern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4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160640"/>
            <a:ext cx="82454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estructura más básica son las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suce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on expresiones separadas por c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ipo: </a:t>
            </a: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exprs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eserva orden y repet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es el j-ésimo elemento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cuándo tiene sent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Los índices: 1,2,3,4,5,6,7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8920" y="44136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A:= a, b/c, y, d, a,e, x^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..2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63640" y="1484280"/>
            <a:ext cx="5467320" cy="885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55880" y="2097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63640" y="2158920"/>
            <a:ext cx="345744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79640" y="2529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10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79480" y="2600280"/>
            <a:ext cx="3705120" cy="885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42920" y="3213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17560" y="3284640"/>
            <a:ext cx="379080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00..11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6480" y="1484280"/>
            <a:ext cx="5105520" cy="876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92240" y="207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87400" y="2133720"/>
            <a:ext cx="37908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52360" y="2492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00000" y="2565360"/>
            <a:ext cx="3886200" cy="885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52360" y="319572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00000" y="3249720"/>
            <a:ext cx="3571920" cy="657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79640" y="1413000"/>
            <a:ext cx="50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eq( f(p, i, q, r), i=[a,b,c,d,e,f]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76240" y="1484280"/>
            <a:ext cx="5496120" cy="63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2240" y="184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%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76240" y="1916280"/>
            <a:ext cx="3381480" cy="628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79640" y="229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%%[8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63640" y="234936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4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imes New Roman"/>
              </a:rPr>
              <a:t>Conjuntos en Maple: 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000" y="167472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soporta conjuntos en el sentido ma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o matemáticas, usamos la llaves para definirl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conjunto es una sucesión encerrada entre llav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no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o repeticion en un conju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onjuntos en Maple se comportan como los conjuntos en matem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{a,b,c}, {c,b,a}, {a,a,b,c,a} son conjuntos idént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68360" y="2205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p(B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Bradley Hand ITC"/>
              </a:rPr>
              <a:t>Los elementos del conjunt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426744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Forte"/>
              </a:rPr>
              <a:t>Operaciones entre conjunt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8360" y="222408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union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464832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2619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intersect B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208160" y="2701800"/>
            <a:ext cx="372420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03280" y="308772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minus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224000" y="3176640"/>
            <a:ext cx="3981240" cy="61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03280" y="3537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subset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224000" y="3608280"/>
            <a:ext cx="3647880" cy="64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 Arellán</cp:lastModifiedBy>
  <dcterms:modified xsi:type="dcterms:W3CDTF">2004-07-23T06:07:02Z</dcterms:modified>
  <cp:revision>1217</cp:revision>
  <dc:subject/>
  <dc:title>No Slide Title</dc:title>
</cp:coreProperties>
</file>