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4C5-991D-4F5E-819C-EB567CE5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EF8-05F4-4916-A843-2572322E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80E-4F96-44BC-B387-BA72A8E4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77E-0AA9-4B81-8065-897D3CEB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B436-0C43-4DFB-91AA-280F4732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3CBB-6571-4F8A-97F1-95237BE8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56F3-C616-424A-B355-6079B02D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92A4-61BB-4276-B201-EEE4125B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F0B6-B27F-4425-BBE7-6AC83918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3F38-C8CA-4365-9EE8-192B8B9B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F603-55F7-4113-938A-B9E8F3CF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279-0659-4DC2-8D81-0FEA0E79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63CD-5220-4BA4-B035-CF4E79D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254E-3589-4679-ADAB-6734CC1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5C37-A34E-41EB-99BA-B7C13493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480E-7A92-4B3D-88A8-4A14E65B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61B6-8639-4B25-A68B-7DBCF4C3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A47E-81AE-42F0-ADD7-A0A97119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7E4C-3315-455B-9E12-026EBFC5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2745-FFDC-4115-A0C8-CD18BB4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2E75-CBEE-428F-80F1-830410DE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E3AC-5A28-47C5-B38D-8A0A1915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6DD-07BD-4776-82BB-C36E757A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D867-A486-436D-9760-DE3204F3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BAFA-56D2-460C-A974-230F5BB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3E51-E039-435E-8684-3C8F4C1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E189-B8B5-48E2-BFA8-D21FCA4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E8BE-2E8C-47B0-8798-796B7396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EC97-88AF-4483-B889-F31AA24A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B62D-4FA3-488F-9A14-DA958291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9FA7-4991-4617-884D-751700C7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E842-2B6A-4CE4-A148-7121A3C6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E0D7-F552-412D-8FA6-C24FF6B0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AD9-0738-4173-B222-5C1EC56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7219-F570-4C08-AE5C-DB1E2BBF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4CE5-82EB-416B-8B7D-31082A06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8031-C5CD-40CA-88A1-587B33BE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0500-203D-449A-9DD8-7A4601F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E98D-CA82-46D4-9D9C-4B8079FA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5CA0-064C-4196-834E-BADB8AE8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AE68-F310-41BF-B632-1F178D8E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F551D-4BE8-4E6F-BFB9-A9A0A677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66ED-7E1E-4E03-ADA6-6E94E52D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F39B0-331D-4180-A385-0007C4C6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3E6-91BF-4934-A28B-20D069E2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FB70-A2C0-40F9-B257-6BD05871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2CD6D-2855-4307-A6E4-3709B84B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9778-A405-4EB5-95B0-4B141C82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B8B4F-669F-4516-9216-B41E653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0F177-222E-437C-A089-5213CDCB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441A-478A-4BBC-8CAB-A1DD6986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F03FC-7247-409C-BD7A-C2110C2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060A-BDCA-4717-B667-72FDBE37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0270-B3F7-4691-A942-947179B5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5B16C-2D8B-4B33-9456-EAE0519D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DC9-056C-4275-B480-AF47837A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8A81-1233-4E41-93B4-3E6A0A88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ADA-1C4E-4259-8227-AA09038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51E-7734-46AE-B19E-1C41B7C3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70A-EC17-4ABD-94A1-372BF422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36C4-32E9-4E23-A7F0-13E94D8DF63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12D9-62ED-450A-8D0C-9D3D68CD173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0194-4722-4981-A883-60675AC869D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5649-2112-4C7C-AB2B-E8AA71BB1F4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B17D-760F-4C8B-9D74-D3A3D02709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50920" y="60580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El comando </a:t>
            </a:r>
            <a:r>
              <a:rPr b="1" lang="es-MX" sz="1800" spc="-1" strike="noStrike">
                <a:solidFill>
                  <a:srgbClr val="ff0000"/>
                </a:solidFill>
                <a:latin typeface="Courier New"/>
              </a:rPr>
              <a:t>identify( )</a:t>
            </a: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 es una novedad  en la nueva versión de Ma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33720" y="-7632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dentify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920" y="60580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El comando </a:t>
            </a:r>
            <a:r>
              <a:rPr b="1" lang="es-MX" sz="1800" spc="-1" strike="noStrike">
                <a:solidFill>
                  <a:srgbClr val="ff0000"/>
                </a:solidFill>
                <a:latin typeface="Courier New"/>
              </a:rPr>
              <a:t>identify( )</a:t>
            </a: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 es una novedad  en la nueva versión de Ma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3720" y="-7632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dentify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1952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evalf( Pi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1413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lbertus Medium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queremos una aproximación decimal del número 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, ¿qué hacem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303640" y="2349360"/>
            <a:ext cx="895320" cy="2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5661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¿Cómo nos regresamos?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33720" y="-7632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dentify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1952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evalf( Pi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1413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lbertus Medium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queremos una aproximación decimal del número 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, ¿qué hacem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303640" y="2349360"/>
            <a:ext cx="895320" cy="209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50920" y="60865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¿Cómo saber de dónde viene 3.141592654?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6000" y="2871720"/>
            <a:ext cx="68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identify( %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627280" y="3357720"/>
            <a:ext cx="190440" cy="209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16000" y="3844800"/>
            <a:ext cx="68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identify( 4.555806216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2519280" y="4437000"/>
            <a:ext cx="561960" cy="2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</cp:lastModifiedBy>
  <dcterms:modified xsi:type="dcterms:W3CDTF">2006-09-29T12:47:17Z</dcterms:modified>
  <cp:revision>612</cp:revision>
  <dc:subject/>
  <dc:title>No Slide Title</dc:title>
</cp:coreProperties>
</file>