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7.png" ContentType="image/png"/>
  <Override PartName="/ppt/media/image15.wmf" ContentType="image/x-wmf"/>
  <Override PartName="/ppt/media/image11.png" ContentType="image/png"/>
  <Override PartName="/ppt/media/image29.wmf" ContentType="image/x-wmf"/>
  <Override PartName="/ppt/media/image6.png" ContentType="image/png"/>
  <Override PartName="/ppt/media/image14.wmf" ContentType="image/x-wmf"/>
  <Override PartName="/ppt/media/image10.png" ContentType="image/png"/>
  <Override PartName="/ppt/media/image28.wmf" ContentType="image/x-wmf"/>
  <Override PartName="/ppt/media/image3.png" ContentType="image/png"/>
  <Override PartName="/ppt/media/image27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5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D1DF-6E19-4E5B-97C2-161671982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F4E3-247B-4F9A-9D87-90C439657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80A5-453E-4F83-B149-F0EFB52CD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4B1A-1AEB-42E4-A643-81B0076AC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454DB-5E4B-4FEE-9B63-17C748A61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F73C0-37CA-4574-B730-CEB7F2B54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C0D39-9884-42F1-993F-E6C4D7D5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202CF-36B3-4A86-A862-93E27686D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424C9-1466-4344-879F-277E923F8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BA579-ECB8-4357-B18D-80EC5A9DE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817EE-D53F-4B4B-9243-A130C9A6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F368-F198-49E3-AA35-5486AB41D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2A8F9-0048-4866-BAB9-BC87B136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8016B-58FD-494D-BC5F-50D85B2B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3F1F7-C424-4C7B-81FE-33E9AE29F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70577-5EF2-4591-93E9-5CED69DEA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5951C-61F5-4172-AD27-89145C38C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7CC5D-798B-4D6A-BE13-BBF6DBAD8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C3321-5E17-43F1-B6D3-4B11A2389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22587-0F81-4952-84CB-0AD560554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6718B-A402-4B14-8D69-0D2D75ACC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9B7E1-6C27-4A1B-8069-BEE4A1668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5BF6-97E7-4873-AF99-5173FE24D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80AFC-4169-4301-B786-495705ABC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CA8B1-AC5F-4C0A-9882-04A59200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209C6-D861-4EE5-BC07-146B4723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4E96F-4ACE-4AEB-9ABC-C08B330A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87253-9710-4F83-8806-7285B5CAC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570E9-A3F7-4776-9CA8-52675BD4C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A6F89-0DEB-492A-B3F0-07D72694C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B108D-5239-4AE1-B43E-51EB6C881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41AD7-5B01-48C5-8617-E1C30EA0F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B9FE1-2D83-48C0-AA46-42E51C3B1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1B26-20AD-446E-820F-BF829E4E5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14014-5999-4641-9D3E-93DB0B508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02B03-F459-4507-9218-2889B2642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E9504-6A8C-4A73-9342-DBC12DFB5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038BE-F7F7-49F8-9348-01147B8C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FE1BB-CF88-491A-B7B6-64BD0A37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38B46-4711-414A-A11F-EBDEADF5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9E947-42A2-4BA0-A0D5-BC6AE9040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EE896-011D-4DF9-861C-E7FB84E31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E2CF2-6DA7-422D-846F-4DDE154D3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FC94-07F9-4383-9FE0-84ECA51C1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62BC-FC73-436F-8AB7-F1EB1B53D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E9FB-6B33-4254-8286-B97F785A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193D-2705-4377-8673-C54818DC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79C8-C36A-4B1C-8C4A-F57D7D1C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C54EF-2161-4A99-9E6D-87E3C27A59E0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6BFBB-F321-4613-BF47-8C357C7FC6BA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43ED3-5F1C-4543-B295-06B3CAD4245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D72C2-58AF-4636-96F4-3B7215262D7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42920" y="1808280"/>
            <a:ext cx="90010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ffffff"/>
                </a:solidFill>
                <a:latin typeface="Times New Roman"/>
              </a:rPr>
              <a:t>Cálculo Numérico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ffffff"/>
                </a:solidFill>
                <a:latin typeface="Times New Roman"/>
              </a:rPr>
              <a:t>con Mapl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95280" y="74160"/>
            <a:ext cx="58165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Notas para la escritura de los números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-360" y="1592280"/>
            <a:ext cx="8381880" cy="35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Tahoma"/>
              </a:rPr>
              <a:t>No use ni punto ni coma para representar números grand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Tahoma"/>
              </a:rPr>
              <a:t>Para agrupar números o expresiones numéricas sólo usamos paréntesi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Tahoma"/>
              </a:rPr>
              <a:t>Para decimales usamos el pun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Tahoma"/>
              </a:rPr>
              <a:t>La coma en Maple se usan para separar elementos de una suces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760840" y="87120"/>
            <a:ext cx="522576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aeaea"/>
                </a:solidFill>
                <a:latin typeface="Stencil"/>
              </a:rPr>
              <a:t>El cálculo en Maple es exacto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42920" y="1376280"/>
            <a:ext cx="2752560" cy="11239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42920" y="1662120"/>
            <a:ext cx="464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66"/>
                </a:solidFill>
                <a:latin typeface="Courier New"/>
              </a:rPr>
              <a:t>2*sqrt(2)+sqrt(3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2920" y="5805360"/>
            <a:ext cx="74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9900"/>
                </a:solidFill>
                <a:latin typeface="Times New Roman"/>
              </a:rPr>
              <a:t>Escribimos el problema y ejecutamo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760840" y="87120"/>
            <a:ext cx="522576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aeaea"/>
                </a:solidFill>
                <a:latin typeface="Stencil"/>
              </a:rPr>
              <a:t>El cálculo en Maple es exacto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142920" y="5805360"/>
            <a:ext cx="74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9900"/>
                </a:solidFill>
                <a:latin typeface="Times New Roman"/>
              </a:rPr>
              <a:t>La solución es exacta, Maple no usa aproximacione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42920" y="1376280"/>
            <a:ext cx="5476680" cy="13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9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4360" y="139320"/>
            <a:ext cx="7543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aeaea"/>
                </a:solidFill>
                <a:latin typeface="Stencil"/>
              </a:rPr>
              <a:t>Aproximación de números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1547640" y="3537000"/>
            <a:ext cx="36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42920" y="1484280"/>
            <a:ext cx="32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[&gt; sin(Pi/2) + 1/5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843280" y="2241720"/>
            <a:ext cx="171360" cy="4474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42920" y="3105000"/>
            <a:ext cx="32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0000"/>
                </a:solidFill>
                <a:latin typeface="Courier New"/>
              </a:rPr>
              <a:t>[&gt;</a:t>
            </a: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 evalf(%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69080" y="-1350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Times New Roman"/>
              </a:rPr>
              <a:t>evalf( 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2627280" y="3537000"/>
            <a:ext cx="895320" cy="2095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142920" y="4184640"/>
            <a:ext cx="39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0000"/>
                </a:solidFill>
                <a:latin typeface="Courier New"/>
              </a:rPr>
              <a:t>[&gt;</a:t>
            </a: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 evalf( Pi+ sqrt(2)+ sqrt(3)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2735280" y="4834080"/>
            <a:ext cx="895320" cy="2095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17320" y="63000"/>
            <a:ext cx="7543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ffffff"/>
                </a:solidFill>
                <a:latin typeface="Stencil"/>
              </a:rPr>
              <a:t>Manejando la precisión numérica…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1484280"/>
            <a:ext cx="39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66"/>
                </a:solidFill>
                <a:latin typeface="Courier New"/>
              </a:rPr>
              <a:t>[&gt;</a:t>
            </a: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 evalf(Pi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2195640" y="2023920"/>
            <a:ext cx="895320" cy="2095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0" y="3105000"/>
            <a:ext cx="39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66"/>
                </a:solidFill>
                <a:latin typeface="Courier New"/>
              </a:rPr>
              <a:t>[&gt;</a:t>
            </a: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 evalf(Pi, 200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1116000" y="3645000"/>
            <a:ext cx="6610320" cy="6667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0" y="4724280"/>
            <a:ext cx="39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66"/>
                </a:solidFill>
                <a:latin typeface="Courier New"/>
              </a:rPr>
              <a:t>[&gt;</a:t>
            </a: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 evalf[200](Pi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1332000" y="5157720"/>
            <a:ext cx="6610320" cy="666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142920" y="611028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00"/>
                </a:solidFill>
                <a:latin typeface="Times New Roman"/>
              </a:rPr>
              <a:t>evalf( ) admite otra forma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42920" y="1592280"/>
            <a:ext cx="39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66"/>
                </a:solidFill>
                <a:latin typeface="Courier New"/>
              </a:rPr>
              <a:t>[&gt;</a:t>
            </a: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 evalf[2000](Pi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6360" y="2457360"/>
            <a:ext cx="68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4360" y="2133720"/>
            <a:ext cx="6696000" cy="31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ff"/>
                </a:solidFill>
                <a:latin typeface="Times New Roman"/>
              </a:rPr>
              <a:t>3.141592653589793238462643383279502884197169399375105820974944592307816406286208998628034825342117067982148086513282306647093844609550582231725359408128481117450284102701938521105559644622948954930381964428810975665933446128475648233786783165271201909145648566923460348610454326648213393607260249141273724587006606315588174881520920962829254091715364367892590360011330530548820466521384146951941511609433057270365759591953092186117381932611793105118548074462379962749567351885752724891227938183011949129833673362440656643086021394946395224737190702179860943702770539217176293176752384674818467669405132000568127145263560827785771342757789609173637178721468440901224953430146549585371050792279689258923542019956112129021960864034418159813629774771309960518707211349999998372978049951059731732816096318595024459455346908302642522308253344685035261931188171010003137838752886587533208381420617177669147303598253490428755468731159562863882353787593751957781857780532171226806613001927876611195909216420198938095257201065485863278865936153381827968230301952035301852968995773622599413891249721775283479131515574857242454150695950829533116861727855889075098381754637464939319255060400927701671139009848824012858361603563707660104710181942955596198946767837449448255379774726847104047534646208046684259069491293313677028989152104752162056966024058038150193511253382430035587640247496473263914199272604269922796782354781636009341721641219924586315030286182974555706749838505494588586926995690927210797509302955321165344987202755960236480665499119881834797753566369807426542527862551818417574672890977772793800081647060016145249192173217214772350141441973568548161361157352552133475741849468438523323907394143334547762416862518983569485562099219222184272550254256887671790494601653466804988627232791786085784383827967976681454100953883786360950680064225125205117392984896084128488626945604241965285022210661186306744278622039194945047123713786960956364371917287467764657573962413890865832645995813390478027590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17680" y="63360"/>
            <a:ext cx="7543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ffffff"/>
                </a:solidFill>
                <a:latin typeface="Stencil"/>
              </a:rPr>
              <a:t>Manejando la precisión numérica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42920" y="6129360"/>
            <a:ext cx="83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9900"/>
                </a:solidFill>
                <a:latin typeface="Times New Roman"/>
              </a:rPr>
              <a:t>Maple es exacto,  las aproximaciones  las solicita el usuario explícitam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42920" y="1376280"/>
            <a:ext cx="39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66"/>
                </a:solidFill>
                <a:latin typeface="Courier New"/>
              </a:rPr>
              <a:t>[&gt;</a:t>
            </a: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 evalf(Pi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76360" y="2457360"/>
            <a:ext cx="68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17680" y="63360"/>
            <a:ext cx="7543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ffffff"/>
                </a:solidFill>
                <a:latin typeface="Stencil"/>
              </a:rPr>
              <a:t>precisión por defecto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42920" y="6129360"/>
            <a:ext cx="83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9900"/>
                </a:solidFill>
                <a:latin typeface="Times New Roman"/>
              </a:rPr>
              <a:t>Por defecto la precisión de Maple es de 10 digi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62000" y="1420920"/>
            <a:ext cx="4619520" cy="7714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399600" y="1816200"/>
            <a:ext cx="182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evalf(sqrt(2))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244440" y="1484280"/>
            <a:ext cx="4543560" cy="116208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453960" y="2241720"/>
            <a:ext cx="42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0000"/>
                </a:solidFill>
                <a:latin typeface="Courier New"/>
              </a:rPr>
              <a:t>evalf(sqrt(2)+ 1.0)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257040" y="1484280"/>
            <a:ext cx="4924440" cy="15336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512640" y="2692440"/>
            <a:ext cx="36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0000"/>
                </a:solidFill>
                <a:latin typeface="Courier New"/>
              </a:rPr>
              <a:t>evalf(sin(3))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4"/>
          <a:stretch/>
        </p:blipFill>
        <p:spPr>
          <a:xfrm>
            <a:off x="250920" y="1484280"/>
            <a:ext cx="5048280" cy="19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8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5697360"/>
            <a:ext cx="7543800" cy="2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9900"/>
                </a:solidFill>
                <a:latin typeface="Tahoma"/>
              </a:rPr>
              <a:t>Digits es una variable interna de Maple, su valor inicial es 10.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142920" y="1484280"/>
            <a:ext cx="39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66"/>
                </a:solidFill>
                <a:latin typeface="Courier New"/>
              </a:rPr>
              <a:t>[&gt; </a:t>
            </a: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Digits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2195640" y="1916280"/>
            <a:ext cx="247680" cy="20952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42920" y="2565360"/>
            <a:ext cx="39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66"/>
                </a:solidFill>
                <a:latin typeface="Times New Roman"/>
              </a:rPr>
              <a:t>[&gt;</a:t>
            </a:r>
            <a:r>
              <a:rPr b="0" lang="es-ES" sz="1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Digits:=50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2920" y="3537000"/>
            <a:ext cx="39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66"/>
                </a:solidFill>
                <a:latin typeface="Courier New"/>
              </a:rPr>
              <a:t>[&gt;</a:t>
            </a: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 evalf(Pi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979640" y="3105000"/>
            <a:ext cx="799920" cy="2098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1440000" y="4076640"/>
            <a:ext cx="3943080" cy="2095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142920" y="4724280"/>
            <a:ext cx="39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66"/>
                </a:solidFill>
                <a:latin typeface="Courier New"/>
              </a:rPr>
              <a:t>[&gt;</a:t>
            </a: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 1/2+ 1/3+ 1/4 + 0.2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4"/>
          <a:stretch/>
        </p:blipFill>
        <p:spPr>
          <a:xfrm>
            <a:off x="1547640" y="5157720"/>
            <a:ext cx="3943440" cy="2095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5327640" y="0"/>
            <a:ext cx="27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ffffff"/>
                </a:solidFill>
                <a:latin typeface="Times New Roman"/>
              </a:rPr>
              <a:t>La variable Digi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6129360"/>
            <a:ext cx="81360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9900"/>
                </a:solidFill>
                <a:latin typeface="Tahoma"/>
              </a:rPr>
              <a:t>Ahora, todos los cálculo en Maple tienen 50 dígitos de precis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3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8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2411280" y="342900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5890" h="21600">
                <a:moveTo>
                  <a:pt x="12945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5890" h="21600">
                <a:moveTo>
                  <a:pt x="10369" y="8224"/>
                </a:moveTo>
                <a:lnTo>
                  <a:pt x="14233" y="8224"/>
                </a:lnTo>
                <a:lnTo>
                  <a:pt x="14233" y="15221"/>
                </a:lnTo>
                <a:lnTo>
                  <a:pt x="15521" y="15221"/>
                </a:lnTo>
                <a:lnTo>
                  <a:pt x="15521" y="16144"/>
                </a:lnTo>
                <a:lnTo>
                  <a:pt x="10369" y="16144"/>
                </a:lnTo>
                <a:lnTo>
                  <a:pt x="10369" y="15221"/>
                </a:lnTo>
                <a:lnTo>
                  <a:pt x="11657" y="15221"/>
                </a:lnTo>
                <a:lnTo>
                  <a:pt x="11657" y="9129"/>
                </a:lnTo>
                <a:lnTo>
                  <a:pt x="10369" y="912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216320" y="63360"/>
            <a:ext cx="26272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umas finitas: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5616360" cy="3859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358920" y="1808280"/>
            <a:ext cx="313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0000"/>
                </a:solidFill>
                <a:latin typeface="Courier New"/>
              </a:rPr>
              <a:t>[&gt; sum( j,  j=1..n)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32720" y="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sum(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3191040" y="2133720"/>
            <a:ext cx="1180800" cy="53316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358920" y="3105000"/>
            <a:ext cx="313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0000"/>
                </a:solidFill>
                <a:latin typeface="Courier New"/>
              </a:rPr>
              <a:t>[&gt; Sum( j,  j=1..n)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>
            <a:off x="3548160" y="3429000"/>
            <a:ext cx="466560" cy="66672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358920" y="4184640"/>
            <a:ext cx="50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[&gt; Sum(j,  j=1..n)= sum(j,  j=1..n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4"/>
          <a:stretch/>
        </p:blipFill>
        <p:spPr>
          <a:xfrm>
            <a:off x="2925720" y="4508640"/>
            <a:ext cx="1714680" cy="6667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358920" y="5373720"/>
            <a:ext cx="507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[&gt; Sum(j,  j=1..n)= factor( sum(j,  j=1..n) 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5"/>
          <a:stretch/>
        </p:blipFill>
        <p:spPr>
          <a:xfrm>
            <a:off x="3168720" y="5697360"/>
            <a:ext cx="1228680" cy="66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4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6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6" dur="8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8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0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69120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Stencil"/>
              </a:rPr>
              <a:t>Cálculo Numérico usando Maple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lang="es-MX" sz="40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42920" y="1484280"/>
            <a:ext cx="4838760" cy="31053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0" y="591336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9900"/>
                </a:solidFill>
                <a:latin typeface="Times New Roman"/>
              </a:rPr>
              <a:t>Objetivos de la le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69120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Stencil"/>
              </a:rPr>
              <a:t>Cálculo Numérico usando Maple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lang="es-MX" sz="40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466560" y="602136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9900"/>
                </a:solidFill>
                <a:latin typeface="Times New Roman"/>
              </a:rPr>
              <a:t>Próxima sección: operadores matemát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42920" y="1376280"/>
            <a:ext cx="7294680" cy="3905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69120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Stencil"/>
              </a:rPr>
              <a:t>Operadores matemáticos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lang="es-MX" sz="4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466560" y="602136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9900"/>
                </a:solidFill>
                <a:latin typeface="Times New Roman"/>
              </a:rPr>
              <a:t>Cerramos la sección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42920" y="1268280"/>
            <a:ext cx="5935680" cy="4714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92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69120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Stencil"/>
              </a:rPr>
              <a:t>Operadores matemáticos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lang="es-MX" sz="4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466560" y="602136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9900"/>
                </a:solidFill>
                <a:latin typeface="Times New Roman"/>
              </a:rPr>
              <a:t>Próxima sección:  Operaciones matemáticas en Ma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4829040" cy="30765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55280" y="0"/>
            <a:ext cx="63723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Stencil"/>
              </a:rPr>
              <a:t>Operaciones matemáticas en Maple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lang="es-MX" sz="4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466560" y="602136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9900"/>
                </a:solidFill>
                <a:latin typeface="Times New Roman"/>
              </a:rPr>
              <a:t>El primer problema…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42920" y="1376280"/>
            <a:ext cx="5172120" cy="3895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55280" y="0"/>
            <a:ext cx="63723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Stencil"/>
              </a:rPr>
              <a:t>Operaciones matemáticas en Maple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lang="es-MX" sz="4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466560" y="602136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9900"/>
                </a:solidFill>
                <a:latin typeface="Times New Roman"/>
              </a:rPr>
              <a:t>Escribimos la estructura del problema…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42920" y="1376280"/>
            <a:ext cx="3390840" cy="13525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69880" y="1954080"/>
            <a:ext cx="18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ff0066"/>
                </a:solidFill>
                <a:latin typeface="Courier New"/>
              </a:rPr>
              <a:t>()/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55280" y="0"/>
            <a:ext cx="63723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Stencil"/>
              </a:rPr>
              <a:t>Operaciones matemáticas en Maple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lang="es-MX" sz="4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466560" y="602136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9900"/>
                </a:solidFill>
                <a:latin typeface="Times New Roman"/>
              </a:rPr>
              <a:t>Completamos la estructura y ejecutamos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42920" y="1376280"/>
            <a:ext cx="3390840" cy="13525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658800" y="1954080"/>
            <a:ext cx="42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ff0066"/>
                </a:solidFill>
                <a:latin typeface="Courier New"/>
              </a:rPr>
              <a:t>(x^2+4)/( 3*x^2-20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4360" y="1916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ff0066"/>
                </a:solidFill>
                <a:latin typeface="Courier New"/>
              </a:rPr>
              <a:t>()/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655280" y="0"/>
            <a:ext cx="63723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Stencil"/>
              </a:rPr>
              <a:t>Operaciones matemáticas en Maple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lang="es-MX" sz="4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466560" y="602136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9900"/>
                </a:solidFill>
                <a:latin typeface="Times New Roman"/>
              </a:rPr>
              <a:t>Ejecutamos el comando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42920" y="1376280"/>
            <a:ext cx="6219720" cy="20383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7T19:58:59Z</dcterms:created>
  <dc:creator>Michael Stuart</dc:creator>
  <dc:description/>
  <dc:language>en-US</dc:language>
  <cp:lastModifiedBy>Aristides</cp:lastModifiedBy>
  <dcterms:modified xsi:type="dcterms:W3CDTF">2006-09-27T12:30:12Z</dcterms:modified>
  <cp:revision>511</cp:revision>
  <dc:subject/>
  <dc:title>No Slide Title</dc:title>
</cp:coreProperties>
</file>