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68AC-2EAB-4ABB-AFAA-283E29AE7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630F-311C-4550-AD2E-AFBE4B5B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B840-63DD-4215-B7F0-AAD0CE23E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BE34-A8A3-4284-A373-70CAE7983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59EB-F882-46B9-9022-FFB046B4B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BC92-0904-464F-AEF7-C91CF023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1CDD-ECEC-4EFE-975C-835EBDEC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1CD8-5B97-4519-81B5-D4E43D4A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25F3-ECB9-4F22-AF7F-D02EB032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A052-9CF8-4423-91FF-4A62A745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46D3-53BE-4162-AF3B-20180F82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6C7E-8F9F-497D-BF2B-D44D6DBA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923A-9248-498E-9AAC-2D8F6CFC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4AAE-C1AA-4FFF-8EE1-AB3C13A6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59CE-C266-4B5B-846E-D6B3D226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B182-9748-4BFC-AF0F-B5EB1EF9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4315-78B5-45F8-823D-DA850B588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E1BF4-F39D-4A4D-81E4-31C17FBBD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702B7-BD9D-4895-91A4-7BF373F4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A9433-1315-4299-A58B-8449F684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FF286-CA5C-4C63-9193-3DD81E3E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16AC7-00F0-4083-8D30-A22198D1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2250-F68A-43C9-B3C9-FE379308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7016A-682E-45CA-BDDA-37B5DC69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23C4B-E6C8-4E21-B759-BB0811C1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FD1D6-D298-468C-84DB-D06F11A4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F0777-2F0D-4831-922B-BE275E31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19A68-90C4-4054-BBCE-604441D8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57A12-B55E-4F49-BC30-086AA4D8D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33782-7B6C-4F08-A7E7-C0B709C20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F16BB-90EA-4CFB-866D-85CD1724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51579-70DB-4F17-B0F2-15054F27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87121-7D2C-4B9C-AB9B-E6DE13E7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E488-4707-4227-A3D4-444223CE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F3C2F-B61F-4442-8202-4191E49B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57667-2EE3-41ED-B1BF-23F2EC12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B2482-9853-4595-9D19-ACCFE249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F77B3-BA13-4F23-A07D-AFE9D579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CA8E0-D14B-4297-AE25-0913C307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FDD9C-A6B5-4165-B34C-CEDBF292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AFFD6-20DE-4D52-A8A6-F00BDFA6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2E0A9-20AA-4A06-AF82-181F21822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E5228-693D-4570-A41D-C5EB19AC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AA43-A08A-4794-8222-3AD19F8C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E3DD-302C-4BAC-B24E-A37EFC6E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6754-5F24-4902-ABA8-776F2B35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1C4D-50B2-45E0-B769-2F390909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0511-82F6-4AC7-963E-8F7B169C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F96A-0269-4942-94A0-CFA2665427D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D4A9-94E9-4F70-96B8-F2CCD300199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83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86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7A3C-71EE-4A52-9A14-7888E2D102D9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38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39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45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1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4591-6E28-4139-9893-83A6403CCC91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C:\Archivos de programa\Maple 10\bin.win\cwmaple.exe" TargetMode="External"/><Relationship Id="rId3" Type="http://schemas.openxmlformats.org/officeDocument/2006/relationships/slideLayout" Target="../slideLayouts/slideLayout3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16000" y="0"/>
            <a:ext cx="8028000" cy="42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ffffff"/>
                </a:solidFill>
                <a:latin typeface="Times New Roman"/>
              </a:rPr>
              <a:t>Abriendo el program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ffffff"/>
                </a:solidFill>
                <a:latin typeface="Times New Roman"/>
              </a:rPr>
              <a:t>Mapl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591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Buscamos el logo del programa  en el escritorio de trabaj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50920" y="5589360"/>
            <a:ext cx="82087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00"/>
                </a:solidFill>
                <a:latin typeface="Tahoma"/>
              </a:rPr>
              <a:t>Colocamos el punto y coma al final del comando y ejecutamos nuevamente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3924360" y="3753000"/>
            <a:ext cx="172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27280" y="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ompletamos el com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42920" y="1700280"/>
            <a:ext cx="209520" cy="2379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66560" y="15922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2*(33+4/5)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6560" y="2241720"/>
            <a:ext cx="48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Warning, premature end of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27280" y="15922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166920" y="2241720"/>
            <a:ext cx="438120" cy="66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83920" y="49320"/>
            <a:ext cx="56437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Bloque de comandos..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42920" y="1419120"/>
            <a:ext cx="5811840" cy="20098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0" y="591336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Cuando ejecutamos un bloque se ejecutan todos  los coma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84080" y="185760"/>
            <a:ext cx="5443560" cy="2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Bloque de comandos..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5688000" y="48340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Tres comando diferentes que se comportan como un comando, al ejecutarlo se ejecutan los tr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42920" y="1376280"/>
            <a:ext cx="5715000" cy="39434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466560" y="2241720"/>
            <a:ext cx="5510520" cy="1079280"/>
          </a:xfrm>
          <a:prstGeom prst="rect">
            <a:avLst/>
          </a:prstGeom>
          <a:noFill/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9640" y="37800"/>
            <a:ext cx="65912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struyendo un bloque...</a:t>
            </a:r>
            <a:r>
              <a:rPr b="1" lang="es-MX" sz="40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3440160" y="2870280"/>
            <a:ext cx="172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1800" y="1467000"/>
            <a:ext cx="30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urier New"/>
              </a:rPr>
              <a:t>2*(33+4/5)-8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92520" y="1467000"/>
            <a:ext cx="2700360" cy="431640"/>
          </a:xfrm>
          <a:prstGeom prst="leftArrow">
            <a:avLst>
              <a:gd name="adj1" fmla="val 50000"/>
              <a:gd name="adj2" fmla="val 156401"/>
            </a:avLst>
          </a:prstGeom>
          <a:solidFill>
            <a:srgbClr val="33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Shift+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358920" y="1514520"/>
            <a:ext cx="2305080" cy="6001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332160" y="1682640"/>
            <a:ext cx="2700360" cy="432000"/>
          </a:xfrm>
          <a:prstGeom prst="leftArrow">
            <a:avLst>
              <a:gd name="adj1" fmla="val 50000"/>
              <a:gd name="adj2" fmla="val 156271"/>
            </a:avLst>
          </a:prstGeom>
          <a:solidFill>
            <a:srgbClr val="33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Shift+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0360" y="1790640"/>
            <a:ext cx="3997080" cy="324000"/>
          </a:xfrm>
          <a:prstGeom prst="rect">
            <a:avLst/>
          </a:prstGeom>
          <a:solidFill>
            <a:srgbClr val="99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urier New"/>
              </a:rPr>
              <a:t>Abre una nueva línea de coman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1800" y="179064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urier New"/>
              </a:rPr>
              <a:t>32*(1+1/4+1/5)-1/3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371520" y="1574640"/>
            <a:ext cx="3219480" cy="8956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631800" y="2114640"/>
            <a:ext cx="3997440" cy="323640"/>
          </a:xfrm>
          <a:prstGeom prst="rect">
            <a:avLst/>
          </a:prstGeom>
          <a:solidFill>
            <a:srgbClr val="99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urier New"/>
              </a:rPr>
              <a:t>Abre una nueva línea de coman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1800" y="2114640"/>
            <a:ext cx="38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urier New"/>
              </a:rPr>
              <a:t>1/2+1/3+1/4+1/5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384120" y="1467000"/>
            <a:ext cx="3971880" cy="32572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358920" y="1484280"/>
            <a:ext cx="247680" cy="2667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951280" y="5697360"/>
            <a:ext cx="55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Ejecutamos el bloqu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31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32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319200" y="125280"/>
            <a:ext cx="469908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rabajando con secciones…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95120" y="1268280"/>
            <a:ext cx="7724880" cy="39625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3816360" y="4724280"/>
            <a:ext cx="3564000" cy="1081080"/>
          </a:xfrm>
          <a:prstGeom prst="wedgeRoundRectCallout">
            <a:avLst>
              <a:gd name="adj1" fmla="val -127685"/>
              <a:gd name="adj2" fmla="val -90967"/>
              <a:gd name="adj3" fmla="val 16667"/>
            </a:avLst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9900"/>
                </a:solidFill>
                <a:latin typeface="Times New Roman"/>
              </a:rPr>
              <a:t>Cuando encuentre # al final de una sección indica que debe cerrarla para continu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924280" y="114120"/>
            <a:ext cx="506088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 crear una sección…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4920" y="1330200"/>
            <a:ext cx="1076400" cy="10191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5003640" y="728640"/>
            <a:ext cx="432000" cy="647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5697360"/>
            <a:ext cx="86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Dando clic, se crea una nueva sección en la línea que contiene el curso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0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924280" y="114120"/>
            <a:ext cx="506088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 crear una sección…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5003640" y="728640"/>
            <a:ext cx="432000" cy="647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4920" y="1301760"/>
            <a:ext cx="1514520" cy="13716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42920" y="602136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Creo líneas de comando para la nueva secció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924280" y="114120"/>
            <a:ext cx="506088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 crear una sección…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142920" y="602136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Creo líneas de comando para la secció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248000" y="728640"/>
            <a:ext cx="324000" cy="64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60480" y="1301760"/>
            <a:ext cx="1514160" cy="13716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4920" y="1317600"/>
            <a:ext cx="1209600" cy="221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924280" y="114120"/>
            <a:ext cx="506088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 crear una sección…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142920" y="602136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Al final, coloco el numeral, </a:t>
            </a:r>
            <a:r>
              <a:rPr b="0" lang="es-VE" sz="2400" spc="-1" strike="noStrike">
                <a:solidFill>
                  <a:srgbClr val="ff0000"/>
                </a:solidFill>
                <a:latin typeface="Times New Roman"/>
              </a:rPr>
              <a:t>#</a:t>
            </a: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, para indicar fin de la s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60480" y="1301760"/>
            <a:ext cx="1514160" cy="13716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34920" y="1317600"/>
            <a:ext cx="1209600" cy="22194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466560" y="2997360"/>
            <a:ext cx="181080" cy="19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924280" y="114120"/>
            <a:ext cx="506088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 crear una sección…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142920" y="602136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Colocamos el nombre de la s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60480" y="1301760"/>
            <a:ext cx="1514160" cy="13716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34920" y="1317600"/>
            <a:ext cx="1209600" cy="22194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466560" y="2997360"/>
            <a:ext cx="181080" cy="1998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212760" y="173196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66"/>
                </a:solidFill>
                <a:latin typeface="Times New Roman"/>
              </a:rPr>
              <a:t>Nombre de la s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195640" y="1700280"/>
            <a:ext cx="496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ffffff"/>
                </a:solidFill>
                <a:latin typeface="Times New Roman"/>
              </a:rPr>
              <a:t>La ventana </a:t>
            </a:r>
            <a:br>
              <a:rPr sz="7200"/>
            </a:br>
            <a:r>
              <a:rPr b="0" lang="es-ES" sz="7200" spc="-1" strike="noStrike">
                <a:solidFill>
                  <a:srgbClr val="ffffff"/>
                </a:solidFill>
                <a:latin typeface="Times New Roman"/>
              </a:rPr>
              <a:t>de trabajo en Mapl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0" y="1376280"/>
            <a:ext cx="900000" cy="865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71440" y="1228680"/>
            <a:ext cx="598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ffffff"/>
                </a:solidFill>
                <a:latin typeface="Berlin Sans FB"/>
              </a:rPr>
              <a:t>Ubicamos el logo de Ma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56800" y="4616280"/>
            <a:ext cx="61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ffffff"/>
                </a:solidFill>
                <a:latin typeface="Berlin Sans FB"/>
              </a:rPr>
              <a:t>Para abrir, doble clic al lo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rId2"/>
          </p:cNvPr>
          <p:cNvSpPr/>
          <p:nvPr/>
        </p:nvSpPr>
        <p:spPr>
          <a:xfrm>
            <a:off x="0" y="1484280"/>
            <a:ext cx="900000" cy="649440"/>
          </a:xfrm>
          <a:custGeom>
            <a:avLst/>
            <a:gdLst>
              <a:gd name="textAreaLeft" fmla="*/ 41760 w 900000"/>
              <a:gd name="textAreaRight" fmla="*/ 858240 w 900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9929" h="21600">
                <a:moveTo>
                  <a:pt x="0" y="0"/>
                </a:moveTo>
                <a:lnTo>
                  <a:pt x="29929" y="0"/>
                </a:lnTo>
                <a:lnTo>
                  <a:pt x="29929" y="21600"/>
                </a:lnTo>
                <a:lnTo>
                  <a:pt x="0" y="21600"/>
                </a:lnTo>
                <a:close/>
              </a:path>
              <a:path fill="lightenLess" w="29929" h="21600">
                <a:moveTo>
                  <a:pt x="0" y="0"/>
                </a:moveTo>
                <a:lnTo>
                  <a:pt x="29929" y="0"/>
                </a:lnTo>
                <a:lnTo>
                  <a:pt x="28529" y="1400"/>
                </a:lnTo>
                <a:lnTo>
                  <a:pt x="1400" y="1400"/>
                </a:lnTo>
                <a:close/>
              </a:path>
              <a:path fill="darken" w="29929" h="21600">
                <a:moveTo>
                  <a:pt x="29929" y="0"/>
                </a:moveTo>
                <a:lnTo>
                  <a:pt x="29929" y="21600"/>
                </a:lnTo>
                <a:lnTo>
                  <a:pt x="28529" y="20200"/>
                </a:lnTo>
                <a:lnTo>
                  <a:pt x="28529" y="1400"/>
                </a:lnTo>
                <a:close/>
              </a:path>
              <a:path fill="darkenLess" w="29929" h="21600">
                <a:moveTo>
                  <a:pt x="29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29" y="20200"/>
                </a:lnTo>
                <a:close/>
              </a:path>
              <a:path fill="lighten" w="29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24280" y="114120"/>
            <a:ext cx="506088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errando la sección…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142920" y="602136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Clic en la cabecer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60480" y="1301760"/>
            <a:ext cx="1514160" cy="13716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34920" y="1317600"/>
            <a:ext cx="1209600" cy="22194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66560" y="2997360"/>
            <a:ext cx="181080" cy="1998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212760" y="173196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66"/>
                </a:solidFill>
                <a:latin typeface="Times New Roman"/>
              </a:rPr>
              <a:t>Nombre de la s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-88920" y="1700280"/>
            <a:ext cx="43200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924280" y="114120"/>
            <a:ext cx="506088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errando la sección…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142920" y="602136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Clic en la cabecer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2560" y="1731960"/>
            <a:ext cx="22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66"/>
                </a:solidFill>
                <a:latin typeface="Times New Roman"/>
              </a:rPr>
              <a:t>Nombre de la s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51000" y="1808280"/>
            <a:ext cx="333360" cy="3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370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1655280" y="0"/>
            <a:ext cx="638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Referenciando los valores ya calculados: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1979640" y="2565360"/>
            <a:ext cx="55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66"/>
                </a:solidFill>
                <a:latin typeface="Times New Roman"/>
              </a:rPr>
              <a:t>Último valor:  %,  </a:t>
            </a:r>
            <a:br>
              <a:rPr sz="3200"/>
            </a:br>
            <a:r>
              <a:rPr b="1" lang="es-MX" sz="3200" spc="-1" strike="noStrike">
                <a:solidFill>
                  <a:srgbClr val="ff0066"/>
                </a:solidFill>
                <a:latin typeface="Times New Roman"/>
              </a:rPr>
              <a:t>penúltimo:  %%,  </a:t>
            </a:r>
            <a:br>
              <a:rPr sz="3200"/>
            </a:br>
            <a:r>
              <a:rPr b="1" lang="es-MX" sz="3200" spc="-1" strike="noStrike">
                <a:solidFill>
                  <a:srgbClr val="ff0066"/>
                </a:solidFill>
                <a:latin typeface="Times New Roman"/>
              </a:rPr>
              <a:t>antepenúltimo:  %%%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622920" y="36360"/>
            <a:ext cx="14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t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370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2303640" y="36360"/>
            <a:ext cx="57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%  ,    %%,  %%%,  %%%%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79200" y="1268280"/>
            <a:ext cx="1333800" cy="103824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0" y="6129360"/>
            <a:ext cx="83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Ejecutamos el bloque de comando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370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"/>
          <p:cNvSpPr/>
          <p:nvPr/>
        </p:nvSpPr>
        <p:spPr>
          <a:xfrm>
            <a:off x="2303640" y="36360"/>
            <a:ext cx="57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%  ,    %%,  %%%,  %%%%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63360" y="1268280"/>
            <a:ext cx="5477040" cy="24289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07800" y="2603520"/>
            <a:ext cx="14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0000"/>
                </a:solidFill>
                <a:latin typeface="Courier New"/>
              </a:rPr>
              <a:t>%-%%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602136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Ejecutamos el comand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370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2303640" y="36360"/>
            <a:ext cx="57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%  ,    %%,  %%%,  %%%%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79200" y="1268280"/>
            <a:ext cx="5448600" cy="26863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07800" y="3060720"/>
            <a:ext cx="11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0000"/>
                </a:solidFill>
                <a:latin typeface="Courier New"/>
              </a:rPr>
              <a:t>%-%%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42920" y="602136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Ejecutamo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370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2303640" y="36360"/>
            <a:ext cx="57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%  ,    %%,  %%%,  %%%%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79200" y="1293840"/>
            <a:ext cx="5295960" cy="288612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142920" y="5265720"/>
            <a:ext cx="52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¿Qué valor tiene %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42920" y="5805360"/>
            <a:ext cx="52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¿Qué valor tiene %%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655640" y="3212640"/>
            <a:ext cx="52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66"/>
                </a:solidFill>
                <a:latin typeface="Tahoma"/>
              </a:rPr>
              <a:t>final del tutorial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4920" y="1592280"/>
            <a:ext cx="433440" cy="3762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600360" y="-12852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Ventana de trabaj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4920" y="2457360"/>
            <a:ext cx="433440" cy="376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4920" y="1484280"/>
            <a:ext cx="75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[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aller: Laboratorio de Matemátic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[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artamento de Matemática. Facultad de Ciencias. ULA</a:t>
            </a: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00360" y="-13500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2 tipos de lín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2414520"/>
            <a:ext cx="49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0000"/>
                </a:solidFill>
                <a:latin typeface="Courier New"/>
              </a:rPr>
              <a:t>1/3 + 1/5 + 1/6 + 1/8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4920" y="2457360"/>
            <a:ext cx="433440" cy="3762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4920" y="1484280"/>
            <a:ext cx="75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[ Taller: Laboratorio de Matemátic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[ Departamento de Matemática. Facultad de Ciencias. U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55640" y="-135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Creando líneas de coman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8360" y="2414520"/>
            <a:ext cx="49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0000"/>
                </a:solidFill>
                <a:latin typeface="Courier New"/>
              </a:rPr>
              <a:t>1/3 + 1/5 + 1/6 + 1/8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71640" y="245736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6360" y="2997360"/>
            <a:ext cx="39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ourier New"/>
              </a:rPr>
              <a:t>1/2 + 1/3+1/4+1/5+1/6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538440" y="3336840"/>
            <a:ext cx="587520" cy="1063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140360" y="728640"/>
            <a:ext cx="541080" cy="5396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38160" y="2997360"/>
            <a:ext cx="433440" cy="384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66560" y="5913360"/>
            <a:ext cx="70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ff"/>
                </a:solidFill>
                <a:latin typeface="Times New Roman"/>
              </a:rPr>
              <a:t>Pulsando la tecla &lt;Enter&gt; ejecutamos el coma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95280" y="63000"/>
            <a:ext cx="583236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reando una línea de texto.</a:t>
            </a:r>
            <a:r>
              <a:rPr b="1" lang="es-MX" sz="36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1871640" y="245736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655640" y="2565000"/>
            <a:ext cx="0" cy="189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-217440" y="162396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99"/>
                </a:solidFill>
                <a:latin typeface="Times New Roman"/>
              </a:rPr>
              <a:t>[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80" y="170028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[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00080" y="1604880"/>
            <a:ext cx="539640" cy="7254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50920" y="1700280"/>
            <a:ext cx="61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ociendo el programa Ma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49560" y="785880"/>
            <a:ext cx="324000" cy="539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0920" y="5589720"/>
            <a:ext cx="78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9900"/>
                </a:solidFill>
                <a:latin typeface="Times New Roman"/>
              </a:rPr>
              <a:t>Clic en el botón : la línea de comando se transforma en línea de text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6056280"/>
            <a:ext cx="78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9900"/>
                </a:solidFill>
                <a:latin typeface="Times New Roman"/>
              </a:rPr>
              <a:t>Las líneas de textos se identifican por el color negro del texto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320"/>
                            </p:stCondLst>
                            <p:childTnLst>
                              <p:par>
                                <p:cTn id="1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39640" y="0"/>
            <a:ext cx="6591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scribiendo un comando...</a:t>
            </a:r>
            <a:r>
              <a:rPr b="1" lang="es-MX" sz="40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3924360" y="3753000"/>
            <a:ext cx="172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2920" y="418464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00"/>
                </a:solidFill>
                <a:latin typeface="Times New Roman"/>
              </a:rPr>
              <a:t>Todo comando debe finalizar con punto y co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8200" y="1541520"/>
            <a:ext cx="30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2*(33+4/5)-8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42920" y="1484280"/>
            <a:ext cx="504720" cy="3999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087640" y="1916280"/>
            <a:ext cx="438120" cy="666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42920" y="472428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00"/>
                </a:solidFill>
                <a:latin typeface="Times New Roman"/>
              </a:rPr>
              <a:t>Pulsando &lt;Enter&gt; se ejecuta nuestro com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2920" y="53737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00"/>
                </a:solidFill>
                <a:latin typeface="Times New Roman"/>
              </a:rPr>
              <a:t>Las líneas de texto se identifican por el color rojo al escrib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2560" y="3752640"/>
            <a:ext cx="82090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00"/>
                </a:solidFill>
                <a:latin typeface="Times New Roman"/>
              </a:rPr>
              <a:t>Si no colocamos el punto y coma al final del comando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3924360" y="3753000"/>
            <a:ext cx="172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16000" y="5265720"/>
            <a:ext cx="61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Script MT Bold"/>
              </a:rPr>
              <a:t>Un mensaje de Maple nos informa que el comando está incompl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88000" y="0"/>
            <a:ext cx="33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¿Qué pa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42920" y="1700280"/>
            <a:ext cx="209520" cy="2379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66560" y="15922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2*(33+4/5)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6560" y="2241720"/>
            <a:ext cx="48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Warning, premature end of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2920" y="4400640"/>
            <a:ext cx="820908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00"/>
                </a:solidFill>
                <a:latin typeface="Times New Roman"/>
              </a:rPr>
              <a:t>Sin completar el comando lo ejecutamos, pulsamos “Enter”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12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920" y="5697360"/>
            <a:ext cx="8208720" cy="7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00"/>
                </a:solidFill>
                <a:latin typeface="Tahoma"/>
              </a:rPr>
              <a:t>Colocamos el punto y coma al final del comando y ejecutamos nuevamente…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3753000"/>
            <a:ext cx="172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27280" y="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ompletamos el com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42920" y="1700280"/>
            <a:ext cx="209520" cy="2379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66560" y="15922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2*(33+4/5)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66560" y="2241720"/>
            <a:ext cx="48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Warning, premature end of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27280" y="15922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7T19:58:59Z</dcterms:created>
  <dc:creator>Michael Stuart</dc:creator>
  <dc:description/>
  <dc:language>en-US</dc:language>
  <cp:lastModifiedBy>Aristides</cp:lastModifiedBy>
  <dcterms:modified xsi:type="dcterms:W3CDTF">2006-09-27T12:49:44Z</dcterms:modified>
  <cp:revision>675</cp:revision>
  <dc:subject/>
  <dc:title>No Slide Title</dc:title>
</cp:coreProperties>
</file>